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97700"/>
        <c:axId val="96070165"/>
      </c:barChart>
      <c:catAx>
        <c:axId val="76597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70165"/>
        <c:crosses val="autoZero"/>
        <c:auto val="1"/>
        <c:lblAlgn val="ctr"/>
        <c:lblOffset val="100"/>
        <c:noMultiLvlLbl val="0"/>
      </c:catAx>
      <c:valAx>
        <c:axId val="960701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97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412-9444-4D53-9A1F-8F88E1CA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596B-0696-4FBC-91EF-B93D71FF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230B-9402-4C15-A816-4CC52B5D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F4D-3F19-49C1-970E-0810BFFD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FDD-0CBC-493B-A1D2-D220C43B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87C-D9AA-4593-A9E1-EB41B85E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B1CF-965C-4BEC-99A4-EE2C5B7E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6C0-A39B-4133-BB87-80FE9AEB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996-7DE5-4EF0-89E6-8236951E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A938-C469-4284-90C1-6C7D3F69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F84-3D78-48F1-AC5A-E4E83080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2E3-AF2B-47E2-892B-B8D89F34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9AD46-FD88-44FD-ACE4-CD3EAE02B7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