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352839"/>
        <c:axId val="31409313"/>
      </c:barChart>
      <c:catAx>
        <c:axId val="443528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409313"/>
        <c:crosses val="autoZero"/>
        <c:auto val="1"/>
        <c:lblAlgn val="ctr"/>
        <c:lblOffset val="100"/>
        <c:noMultiLvlLbl val="0"/>
      </c:catAx>
      <c:valAx>
        <c:axId val="314093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3528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6EC4-5594-41C9-A0DB-95ABCEA60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BF33-9B59-4953-9C22-611112B1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CF1A-772E-4011-B6CA-3A0C6B052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CF40-2AE3-4428-A9BD-9719F7881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30E3-46B8-4072-BC34-06AD91A1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E138-2FA8-455B-8FE7-E32AC951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7A45-8ACB-41DD-95DA-C813781B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C54D-ABE5-47C5-AC72-6FECC212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0C7F-4CCF-4350-B180-2F6FB9CB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17C0-C0A0-49E3-B0B6-46F3B71F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A3E6-949B-4B4B-BB37-BCCC6978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6A80-8664-40BF-BFAC-0F610866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26539F-6930-4DE1-806F-3F49CAB843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