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023832"/>
        <c:axId val="71375628"/>
      </c:barChart>
      <c:catAx>
        <c:axId val="300238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75628"/>
        <c:crosses val="autoZero"/>
        <c:auto val="1"/>
        <c:lblAlgn val="ctr"/>
        <c:lblOffset val="100"/>
        <c:noMultiLvlLbl val="0"/>
      </c:catAx>
      <c:valAx>
        <c:axId val="713756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0238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F5A1-5DB5-43E3-A4CD-8E1617CF2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9E45-7433-445D-85D2-06A5F8EC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1EDB-CC1F-4C6A-9D10-6EF22CA61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43BF-19FF-4FAF-A8BD-894DB28D6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EE8C-843C-416D-990B-7E41BBF0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0759-D9CF-4F29-BE6E-8B4FA2A8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3577-0F25-4483-B588-2C011A63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59DD-4CC4-4F3E-8B84-E3319238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58BB-360B-4C7C-94D7-5CD0CF57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9098-4360-45D9-8726-9A817570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4BAB-368E-4A38-93A4-BFE3464C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BB1C-F8CB-4F81-9F49-38BD636F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B0145-E91D-4DF8-B0B5-51A82D560F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