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01495"/>
        <c:axId val="87574481"/>
      </c:barChart>
      <c:catAx>
        <c:axId val="87701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4481"/>
        <c:crosses val="autoZero"/>
        <c:auto val="1"/>
        <c:lblAlgn val="ctr"/>
        <c:lblOffset val="100"/>
        <c:noMultiLvlLbl val="0"/>
      </c:catAx>
      <c:valAx>
        <c:axId val="87574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01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DED-D5C8-439D-B197-9F06558B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786-31FB-434C-85A0-89B86CE0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D45-BB6A-45F4-80A3-3D190E8C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FA1-3CB0-48E5-8A8C-D85320BF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9B5-C18E-462D-8EC3-1185B4F1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8C3-12AE-4C26-8AB6-C2A1F779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CAB-C49A-4EA9-A94C-AF9F4E60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B45-FCA4-4BA1-8967-6076F1F2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8F7-E01C-4511-978D-F587D26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6A9-7661-4A54-9F9E-A762743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538-89AD-47EA-BA9D-FB38048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8DF-65F0-41AE-9531-21D4339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10C7A-796B-4955-BE01-F37211BF47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