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5CAD-28D6-4E67-B53A-23612C3D0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C8C8-1E8F-4868-874C-2B3C69BEE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5BA4-5AC9-4F9E-876A-01D5F2F1D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FC1C-4732-476F-B0AD-F6180F3F1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9BAB-045C-4780-94E0-775CB6E40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B7FA-6197-4027-8002-34FEAA9A8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5F6E-66B5-421E-88F7-D8E35C578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E45F-37FD-40E3-9516-B9259BC68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7A84-86DC-4E34-936B-FC49348E7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5F34-9FB1-4B38-AFA3-4F10B96F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5EAC-F3DF-462F-82A4-420BC417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1608-CD8D-4436-BF47-0522E195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CBDBC-26CF-4FC8-BDF7-D28916EF21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Tcl Integration with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6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cript Evalu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is a Tcl script.  The "eagle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here is actually a Tcl command that h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been implemented in managed code (in th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ase, it simply maps to the "eval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 Eagle)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Courier New"/>
              </a:rPr>
              <a:t>eagl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debug break; # type "#go" to contin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Tk in the Main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will load Tk into the new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package require Tk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Service the Tcl event loop until we are cancel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fter 10000 [list interp cancel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atch {while {1} {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upd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reat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thread nu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active Eagle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object invoke -alias Interpreter GetActiv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reate Tcl worker thre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Create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100 true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Extract the thread name from the resul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name [$result ToString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object for the thread we just creat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-flags +NonPublic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name \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hread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ell the worker thread to create a Tcl inter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Cre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null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Queue a script to evaluate to the worker thre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Evalu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package require Tk}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Delete the worker thread (this will also cause t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cl interp to be deleted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interp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eleteTclThre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$name fals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oes it run on Mono?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by popular deman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rt Answer: Y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Answer: Yes, it runs on version 2.0 or higher.  However, version 2.4 or higher is recommended due to serious bugs in earlier 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o does not perfectly emulate the .NET Framework and still has bugs that affect Eagle (e.g. #473899, #478489, #479061, #49093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09880" y="1608120"/>
            <a:ext cx="332280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ait a minute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ntegrate with Tcl if Eagle is already an implementation of the Tcl languag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integrate with Tc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xisting Tcl integration solutions for the CLR were less than ide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ossibility of using the expressive power of a Tcl-compatible language to control the integration of the Tcl language with the CLR was very compell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unit-testing of embedding scenarios that need to dynamically load and unload the Tcl libr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cl Integration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ny build of Tcl/Tk, version 8.4 or higher, including "basekits" and "stardlls"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32-bit and 64-bit operating system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worker threads with their own event loop processin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xit handler creation and dele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script cancellation via TIP 28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 unified stack trace for errors via the Eagle errorInfo varia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rror line number management via TIP 336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 deleted interpreter from being u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n interpreter with activations from being deleted via TIP 33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Tcl Automatical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library available.  The ex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algorithm used is documented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e pap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ading Tcl with Version Requirem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library available that meets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version requirements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–minimumversion 8.4 \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-maximumversion 8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a Specific Tcl Libr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will skip the Tcl 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detection logic and simply load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Tcl library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{C:\full\path\to\tcl.dll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9-10-01T15:50:24Z</dcterms:modified>
  <cp:revision>369</cp:revision>
  <dc:subject>Eagle</dc:subject>
  <dc:title>Eagle: Tcl Integration with the CLR</dc:title>
</cp:coreProperties>
</file>