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57240"/>
            <a:ext cx="9137520" cy="0"/>
          </a:xfrm>
          <a:prstGeom prst="line">
            <a:avLst/>
          </a:prstGeom>
          <a:ln w="1260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5440" y="6630840"/>
            <a:ext cx="1187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5427-6C4A-471F-882C-16ACD458233A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99600" y="6630840"/>
            <a:ext cx="6444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3A64B3EA-E2A2-4F88-B24C-9B7487A2AA8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27960" y="66088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15120" y="209520"/>
            <a:ext cx="2604960" cy="447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9440" y="6620040"/>
            <a:ext cx="215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nual Tcl/Tk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6768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5240" y="2118960"/>
            <a:ext cx="7407360" cy="9190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55840"/>
            <a:ext cx="6381720" cy="4557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1980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966160" y="1457280"/>
            <a:ext cx="177840" cy="45496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5584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0696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451480" y="4138200"/>
            <a:ext cx="33926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J. S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Softwar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Octo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081400" y="1981080"/>
            <a:ext cx="376236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t SMIT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 of a Te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in Tcl/T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4760" y="0"/>
            <a:ext cx="0" cy="68580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99920" y="6497640"/>
            <a:ext cx="4703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© 2008 Raytheon Compan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ustomer Success Is Our Miss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is a registered trademark of Raytheon Compan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A7388A-D5D4-488C-99EF-72132DB14B14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“transport controls” for play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ack to previous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play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one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executing test cas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est cases (speed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of current test case, line number, and fi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tton to “record” new te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st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idn’t like preparing test case files with a text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aw the blindingly obvious solution that I mi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 listen to feedback from the user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75884" r="0" b="0"/>
          <a:stretch/>
        </p:blipFill>
        <p:spPr>
          <a:xfrm>
            <a:off x="5983200" y="1395360"/>
            <a:ext cx="2853000" cy="8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79C481-4B07-4C54-BC3C-84DC936F31F8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Hook Into Tel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uses a peculiar homegrown IPC scheme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was available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re compiled into static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my op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hared library with wrappers for Teller IP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t to register for Teller inter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ocket to receive other messages intended for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93800" y="2709720"/>
          <a:ext cx="7408800" cy="1241640"/>
        </p:xfrm>
        <a:graphic>
          <a:graphicData uri="http://schemas.openxmlformats.org/drawingml/2006/table">
            <a:tbl>
              <a:tblPr/>
              <a:tblGrid>
                <a:gridCol w="4422600"/>
                <a:gridCol w="1555920"/>
                <a:gridCol w="1430280"/>
              </a:tblGrid>
              <a:tr h="306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e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r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i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 C extension in shared libr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extend Tcl with other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752C75-4C74-4D09-876F-4B3E0AFEA245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ok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the test case D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going messages we expect to be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coming messages we expect to com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Log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o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g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to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from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lo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/ASCII 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04AC6A-D47B-4924-B301-D640ED1E62E1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Parse th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Tactical Information Message Format (GTI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already has a C tool to dump GTIMF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s fields and displays them nume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interpret values, so not truly human-rea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correlate with Agent SMITH Event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GTIMF parser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structure from ICD encoded in simple 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procedures parse message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easily be extended to other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a week to design, code, test, and docu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gain, Tcl excels at network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0560E0-7945-4905-8CB5-54B8F0A1DFBF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de-By-Side Compar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78400" y="1206360"/>
            <a:ext cx="2870280" cy="4832640"/>
            <a:chOff x="5378400" y="1206360"/>
            <a:chExt cx="2870280" cy="48326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378400" y="5006880"/>
              <a:ext cx="287028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5395680" y="1206360"/>
              <a:ext cx="2853000" cy="360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65200" y="1089000"/>
            <a:ext cx="3867120" cy="5168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00920" y="6178680"/>
            <a:ext cx="202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Ske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1280" y="61754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C13016-67D6-487C-82F8-F5464A252855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 helped ensure success of initi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enough for rapid proto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enough for chang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ful enough for deliver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SMITH has been well received by multiple user communities and used in some unexpected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use it to explore “What if?”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use it to debug other Telle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use it to provide repeatable stim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l/Tk is ideal for developing tools and test har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C4155E-3ED8-4ABB-908E-4A78C8C37A71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2000"/>
            <a:ext cx="44193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has an existing system called Story T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eracts with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sked us to add a new system called Story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data from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data to Story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defined interface (I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66000" y="129528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T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6000" y="528624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loud"/>
          <p:cNvSpPr/>
          <p:nvPr/>
        </p:nvSpPr>
        <p:spPr>
          <a:xfrm>
            <a:off x="5807160" y="2809800"/>
            <a:ext cx="2743200" cy="1838520"/>
          </a:xfrm>
          <a:prstGeom prst="pie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4" idx="1"/>
            <a:endCxn id="93" idx="1"/>
          </p:cNvCxnSpPr>
          <p:nvPr/>
        </p:nvCxnSpPr>
        <p:spPr>
          <a:xfrm flipH="1" rot="10800000">
            <a:off x="6051240" y="1732680"/>
            <a:ext cx="2160" cy="3991680"/>
          </a:xfrm>
          <a:prstGeom prst="bentConnector3">
            <a:avLst>
              <a:gd name="adj1" fmla="val -41500000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7" name=""/>
          <p:cNvCxnSpPr>
            <a:stCxn id="95" idx="4"/>
            <a:endCxn id="94" idx="0"/>
          </p:cNvCxnSpPr>
          <p:nvPr/>
        </p:nvCxnSpPr>
        <p:spPr>
          <a:xfrm>
            <a:off x="7178400" y="4660920"/>
            <a:ext cx="1080" cy="61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8" name=""/>
          <p:cNvCxnSpPr>
            <a:stCxn id="93" idx="2"/>
            <a:endCxn id="95" idx="5"/>
          </p:cNvCxnSpPr>
          <p:nvPr/>
        </p:nvCxnSpPr>
        <p:spPr>
          <a:xfrm>
            <a:off x="7178400" y="2185560"/>
            <a:ext cx="1080" cy="71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2F6FF6-E1D5-479D-B9AB-A62F4019D24E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Maker not available during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complicated accept/reject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contain many interrelated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er performs validity and consistency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ly hundreds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required to play with those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ommunities with differ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need to perform Uni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need to perform Integr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need to perform Functional Qualific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y effort – How can we ensure succe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28FBAE-17F0-4171-8CD0-E7FEA6C97F73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232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Teller project engineer sketched out an idea for a tool that would let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 tes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equired initial conditions and expected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it to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ny error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test PASS/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ard would i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5080" y="1089000"/>
            <a:ext cx="4076640" cy="54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F7881E-76B5-4942-8AA9-9A9D927841D4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/Tk to the Rescu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prototyp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makes networking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k excels at building G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used in Story series and rel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proceeded in four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totype proposed solution for proof-of-concept 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utomate the tool with playback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Hook into Teller to monitor internal and exter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arse the data into human-readabl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use Tcl/Tk for prototyp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liver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B3FFDB-5D0F-4944-B93B-0FE81C019820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“Agent” SMIT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vious project of mine was nicknamed “matr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developed when the first Matrix movie was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features a prominent matrix of data in the form of a Tk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ject was a code coun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SLO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a trend of including “titles” when nam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ronym SMITH was a natural for thi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one called it “Agent SMITH”, with a Hugo Weaving dra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st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E5CBF2-FD7A-4AB7-B153-91DFE21ABC38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rototype 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tailed Expected Response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confusing Expected Outputs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ally two kinds of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tual response message back 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 taken by Teller and the Other System as a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utomatically check expected vs. actua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need a way to describe external reactions, but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generic Event Log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olling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TEST Case, Initial Conditions, Result, and Erro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stination host:port fields for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8880" y="1089000"/>
            <a:ext cx="1764000" cy="2359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499600" y="1812960"/>
            <a:ext cx="0" cy="5475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56320" y="1200240"/>
            <a:ext cx="1446480" cy="27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8120" y="3006720"/>
            <a:ext cx="1446120" cy="244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167680" y="1457280"/>
            <a:ext cx="1440" cy="1533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4880" y="1506600"/>
            <a:ext cx="1446120" cy="296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B17D7B-912F-4D46-9BF1-95D921DCA60C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27088E-006 L -0.37465 0.17649 E">
                                      <p:cBhvr>
                                        <p:cTn id="6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465 0.17649 L 0.00017 -0.00116 E">
                                      <p:cBhvr>
                                        <p:cTn id="14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typ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proof-of-concept to Tell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menus to aid in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ry used tk_optionMenu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labels - they show their curr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the window big and clut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menubuttons with down-arrow character i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we have used combo boxes?  (Maybe still cluttere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ize of main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Event Log a separate resizabl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Exit button into a Fil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destination specification into a Server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50000" y="4324320"/>
            <a:ext cx="2057400" cy="73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47648" r="60009" b="27354"/>
          <a:stretch/>
        </p:blipFill>
        <p:spPr>
          <a:xfrm>
            <a:off x="6961320" y="1693800"/>
            <a:ext cx="164628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CB1101-691F-404D-931A-D511DB24F86B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utomate the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ntry to File menu to Open a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d by 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Domain-Specific Language (D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Case  Msg Msg     Track  TELL ID                          S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 Num  Typ ID      ID     Stat Threat      Cat     Plat    Type    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1  11  123     JJS     0   ASMDFRND    AIR     FTR     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t msg "Enter the desired Message ID:" ;# get value of msg from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2  11  $msg    JJS     0   FRIEND      AIR     FTR    *F-18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llegal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e "Special setup required for next test case!" ;# stops automatic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3  11  123     JJS     0   FRIEND      AIR    *BMR    *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consistent platform &amp;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create Domain Specific Languages with 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9520" y="389412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280" y="4157640"/>
            <a:ext cx="87948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3040" y="491976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405320"/>
            <a:ext cx="54000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080" y="4327560"/>
            <a:ext cx="461880" cy="1569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524317-BD30-4929-B210-B100937AA325}" type="datetime1">
              <a:rPr lang="en-US"/>
              <a:t>07/30/26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7:46:14Z</dcterms:created>
  <dc:creator/>
  <dc:description/>
  <cp:keywords/>
  <dc:language>en-US</dc:language>
  <cp:lastModifiedBy>RTSC</cp:lastModifiedBy>
  <cp:lastPrinted>2009-04-22T19:24:48Z</cp:lastPrinted>
  <dcterms:modified xsi:type="dcterms:W3CDTF">2008-10-14T18:38:11Z</dcterms:modified>
  <cp:revision>109</cp:revision>
  <dc:subject/>
  <dc:title>Presentation  Title to allow  for 3 lines</dc:title>
</cp:coreProperties>
</file>