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5240" cy="370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A7C37-F31E-4B1D-8248-CAE7AA71D6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4A801-21F8-46A0-85F9-92EACC3EE6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42174-0246-41C7-AA47-D4316D07C3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7116D-EC93-481D-BBD8-AFFAA224DB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onomic se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ny is in trou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have to decide how to so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230DA-CA53-427F-87C5-86012FC109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writer: how to synch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ing tool: similar tool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E53AE-0E68-4213-AFF7-A596A4F628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4B559-3E9D-4F31-A556-5C4A56DC92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DBC46-09A1-4848-8F6D-8808144151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6136F-7F34-4E56-84F0-FE1FDCC168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Also used in primary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EE2E2-BA19-4700-8C95-C4E3D70116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0D5B1-49BF-4410-9B37-2115C2173B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Different toolsets for experimental cond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Process activities are stored in a log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ogfile is split into files per t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ogs are converted to a format suitable for MEP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Mepa is a special purpose program for processing and analysing protoc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No more about MEPA because it isn’t written in T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5956B-A862-4490-BF3A-240F75D9DA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as, not in t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53754-DEA4-4105-829D-0ECF27F826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62A6E-0DE9-4328-87AD-4A33149DA7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Dynamic loading mak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pid development and bugfixes possi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ewall made http necessa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ss-platform is a wish, not a dem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31382-85E6-49ED-B30F-8D9396856F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clhttp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http is primary means of commun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Firewal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P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741760" y="36874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69232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8864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74176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8864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743200" y="761760"/>
            <a:ext cx="575784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69232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741760" y="36874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69232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864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74176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68864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43200" y="761760"/>
            <a:ext cx="575784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9232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bd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ZW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A1_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2000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Text Box 7"/>
          <p:cNvSpPr/>
          <p:nvPr/>
        </p:nvSpPr>
        <p:spPr>
          <a:xfrm>
            <a:off x="7322040" y="6019920"/>
            <a:ext cx="1480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9B3F5-DCD5-4D1E-8551-769EDB4CD6E6}" type="slidenum">
              <a:rPr b="0" lang="en-GB" sz="16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/14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bd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ZW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A1_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2000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2743200" y="5334120"/>
            <a:ext cx="5757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mailto:j.g.m.jaspers@uu.n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743200" y="1599840"/>
            <a:ext cx="575784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VCRI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741760" y="2301840"/>
            <a:ext cx="57578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1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w development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2666880" y="3124080"/>
            <a:ext cx="52578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Jos Jasp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Langeveld Research Centre Learning in Interac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Utrecht Universit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The Netherlan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Shared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ynchronis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sistency, persistenc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les or Metak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nec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YSIW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llusion of one cop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warenes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New Tools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deling too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lain mod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usal relations mod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mulation mod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deling tools (to be developed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adar too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signed to evaluate the participation of students in the assign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er assess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 algn="ctr">
              <a:lnSpc>
                <a:spcPct val="101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Verdana"/>
              </a:rPr>
              <a:t>DEMO</a:t>
            </a:r>
            <a:endParaRPr b="0" lang="en-US" sz="9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VCRI’s future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CRI go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ubli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ducational relea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ols for easier installation and maintena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eacher too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pen sour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rov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tend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Questions?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741400" y="1619280"/>
            <a:ext cx="61736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w is the time to as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mail:  </a:t>
            </a:r>
            <a:r>
              <a:rPr b="0" lang="en-US" sz="2000" spc="-1" strike="noStrike" u="sng">
                <a:solidFill>
                  <a:srgbClr val="3a66ae"/>
                </a:solidFill>
                <a:uFillTx/>
                <a:latin typeface="Verdana"/>
                <a:hlinkClick r:id="rId1"/>
              </a:rPr>
              <a:t>j.g.m.jaspers@uu.n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ttp://edugate.fss.uu.nl/~crocicl/vcri_eng.htm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Overview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CR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w too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deling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er evalu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monst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VCRI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irtual Collaborative Research Institu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multiplatform groupware applic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arget ages of students 15-17 yea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ended for group assignments over longer periods (e.g. 10-15 hour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toolbox with  20 tools to support collabo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VCRI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Picture 4" descr="VCRI-program"/>
          <p:cNvPicPr/>
          <p:nvPr/>
        </p:nvPicPr>
        <p:blipFill>
          <a:blip r:embed="rId1"/>
          <a:stretch/>
        </p:blipFill>
        <p:spPr>
          <a:xfrm>
            <a:off x="2906640" y="1619280"/>
            <a:ext cx="542772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CRI as a research tool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fferent toolsets in different experimental condi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gging of eve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utomated conversion of logs to MEPA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MEPA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ultiple Episode Protocol Analys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flexible program for the annotation of, coding of verbal or nonverbal observational data or protocol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develop a system for coding observational dat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alyze the coded verbal or non-verbal protocols with a variety of quantitative or qualitative metho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MEPA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Picture 3" descr=""/>
          <p:cNvPicPr/>
          <p:nvPr/>
        </p:nvPicPr>
        <p:blipFill>
          <a:blip r:embed="rId1"/>
          <a:stretch/>
        </p:blipFill>
        <p:spPr>
          <a:xfrm>
            <a:off x="2741760" y="1619280"/>
            <a:ext cx="575784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Architecture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ent/server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nimal cli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mote sourcing/dynamic load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munication via (secure) htt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enever possible cross-platfor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Tools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clHttp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clkit, Stark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etak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[incr Tcl]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kHTM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kOG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cel Broeken</dc:creator>
  <dc:description/>
  <cp:keywords>VCRI Tcl</cp:keywords>
  <dc:language>en-US</dc:language>
  <cp:lastModifiedBy>Auditorium</cp:lastModifiedBy>
  <dcterms:modified xsi:type="dcterms:W3CDTF">2008-06-06T08:49:28Z</dcterms:modified>
  <cp:revision>53</cp:revision>
  <dc:subject>VCRI</dc:subject>
  <dc:title>VCRI: Using shared visualisations for collabor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