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3CF517-3B70-453F-94AB-ABDBC402E7C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098D07-D616-4775-AADC-C13CEEABD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A4ED48-64FD-4A3B-8ADE-951F7B632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8BB971-36D4-4597-9B6A-8FA7A2F5C1F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8F3F-4E5D-46F7-A4A1-5D208BD55AF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AC4E-3364-407F-B46A-98D3CA89106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C145-49F6-486F-9F2A-7E37631ACCA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E586-818A-4CD9-B85F-0ECC436ABCB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4E7B-CB43-4FD0-AE45-20DCB00299A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676520" y="291960"/>
            <a:ext cx="716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43BD-4FAA-4000-8AAD-E7727826DB9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328B-A393-4E4E-B615-381B72E1D73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E1AD5A-1E4C-410A-95D0-43C2BFE4C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5541-A7E5-4930-A2AD-4B6EF16555A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3130-D97C-47B3-9DBF-2C9D2023CAF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8DE7-5B20-4BCC-B134-1368A2B7604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179C-4109-4397-B1B2-FBF0ED6918A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1089-A869-4CD2-9EE1-6BE12ED7B2D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D2EB1B-E0E3-4639-9CB0-5145C5A35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66B02F-0207-438F-8684-A03F68F8C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AE0827-9B17-41CF-991B-FDAD66FCF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76520" y="291960"/>
            <a:ext cx="716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163DDC-1B78-485C-AF1D-4A87AE87A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BD7403-76EC-49BA-A1BE-F9393AA4B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9B5398-B784-4ACD-8E6C-8AA4D0D7D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E27AB6-D961-455A-AFBB-F58B549D3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" name=""/>
          <p:cNvGrpSpPr/>
          <p:nvPr/>
        </p:nvGrpSpPr>
        <p:grpSpPr>
          <a:xfrm>
            <a:off x="208080" y="291960"/>
            <a:ext cx="8707320" cy="636840"/>
            <a:chOff x="208080" y="291960"/>
            <a:chExt cx="8707320" cy="636840"/>
          </a:xfrm>
        </p:grpSpPr>
        <p:sp>
          <p:nvSpPr>
            <p:cNvPr id="2" name=""/>
            <p:cNvSpPr/>
            <p:nvPr/>
          </p:nvSpPr>
          <p:spPr>
            <a:xfrm>
              <a:off x="228600" y="304920"/>
              <a:ext cx="8686800" cy="609480"/>
            </a:xfrm>
            <a:prstGeom prst="rect">
              <a:avLst/>
            </a:prstGeom>
            <a:gradFill rotWithShape="0">
              <a:gsLst>
                <a:gs pos="0">
                  <a:srgbClr val="b82619"/>
                </a:gs>
                <a:gs pos="100000">
                  <a:srgbClr val="ffffff"/>
                </a:gs>
              </a:gsLst>
              <a:lin ang="108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3"/>
            <a:stretch/>
          </p:blipFill>
          <p:spPr>
            <a:xfrm>
              <a:off x="208080" y="291960"/>
              <a:ext cx="1447560" cy="63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CEAD7-DA5C-4E2F-8BA1-AEFACD420C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2BE83-CC2D-4C0D-8344-C2725344E3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activestate_logo" descr=""/>
          <p:cNvPicPr/>
          <p:nvPr/>
        </p:nvPicPr>
        <p:blipFill>
          <a:blip r:embed="rId3"/>
          <a:stretch/>
        </p:blipFill>
        <p:spPr>
          <a:xfrm>
            <a:off x="7785000" y="2565360"/>
            <a:ext cx="1314720" cy="571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000000"/>
                </a:solidFill>
                <a:latin typeface="Arial"/>
              </a:rPr>
              <a:t>Applied Open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Core Tea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ed in August 2000 with 14 charter members based on community voting to collectively manage development of the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133720" y="3032280"/>
          <a:ext cx="5105160" cy="2766960"/>
        </p:xfrm>
        <a:graphic>
          <a:graphicData uri="http://schemas.openxmlformats.org/drawingml/2006/table">
            <a:tbl>
              <a:tblPr/>
              <a:tblGrid>
                <a:gridCol w="2552760"/>
                <a:gridCol w="2552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rl Lehenbau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 Harri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hael McLenn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 Richard Hip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rey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hn Ousterh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rge Howlet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nt Wel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3753000" y="5799240"/>
          <a:ext cx="1866600" cy="431640"/>
        </p:xfrm>
        <a:graphic>
          <a:graphicData uri="http://schemas.openxmlformats.org/drawingml/2006/table">
            <a:tbl>
              <a:tblPr/>
              <a:tblGrid>
                <a:gridCol w="18666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T: TIP Initiativ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P page for Tc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www.tcl.tk/cgi-bin/tct/tip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hey focu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urrently over 130 T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ivided into process, informational &amp; project T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T discussion is open on the public mailing list: 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tcl-core@lists.sourceforge.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Maintain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/Tk maintainers are separate from the T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intainers oversee a specific area of the core, as defined in TIP #16 for Tcl and TIP #23 for T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y assist, but are not solely responsible for, fixing  bugs and adding documentation in thei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y are responsible for reviewing code and approving code changes to thei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pen to anyone willing to learn the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ew volunteers always wel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he Maintainers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276200" y="3886200"/>
          <a:ext cx="7315200" cy="1595520"/>
        </p:xfrm>
        <a:graphic>
          <a:graphicData uri="http://schemas.openxmlformats.org/drawingml/2006/table">
            <a:tbl>
              <a:tblPr/>
              <a:tblGrid>
                <a:gridCol w="1716120"/>
                <a:gridCol w="1986120"/>
                <a:gridCol w="1987560"/>
                <a:gridCol w="162540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en Fli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ter Spju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dd Helf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rge Smi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édéric Bonn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Griff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ce 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ngye Ma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e Engl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iel 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n Riefenstah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uel Bañ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1241280" y="1676520"/>
          <a:ext cx="7315200" cy="162216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iel 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 Ingh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Ken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uel Sof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reas Kup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lf Schroed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ce 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 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t Thoy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e Mistachk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vel Gor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"/>
          <p:cNvSpPr/>
          <p:nvPr/>
        </p:nvSpPr>
        <p:spPr>
          <a:xfrm>
            <a:off x="609480" y="1219320"/>
            <a:ext cx="207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l (TIP #24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840" y="3429000"/>
            <a:ext cx="199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k (TIP #30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8760" y="5638680"/>
            <a:ext cx="480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ways open for new recruit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Scriptics/Ajuba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criptics became Ajuba Solutions in May 2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terwoven: content management company in need of B2B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tcl.sf.net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ferences to Scriptics site should all be changed to 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http://www.tcl.tk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6705720" y="439560"/>
            <a:ext cx="433440" cy="417600"/>
            <a:chOff x="6705720" y="439560"/>
            <a:chExt cx="433440" cy="417600"/>
          </a:xfrm>
        </p:grpSpPr>
        <p:sp>
          <p:nvSpPr>
            <p:cNvPr id="201" name=""/>
            <p:cNvSpPr/>
            <p:nvPr/>
          </p:nvSpPr>
          <p:spPr>
            <a:xfrm>
              <a:off x="693108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81012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680976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75828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67575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75756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70572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at SourceFor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ourceForge provides a wealth of services for open source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Bug and patch 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ailing 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VS reposi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eb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naged by TCT and Tcl/Tk maintai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ot the Tcl Developer X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@ 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established 199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ed Open Sourc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ff Hobbs hired in Feb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reas Kupries follows soon af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alth of scripting knowledge at Active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eState and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provides the Tcl community with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66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</a:rPr>
              <a:t>http://www.ActiveState.com/TclDirec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essional services for Tcl (TclDir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e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PN Tcl (Tcl Dev Kit + Komodo I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Arial"/>
              </a:rPr>
              <a:t>http://www.ActiveState.com/Tcl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eTcl 8.4.3.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the 8.4.3 Tcl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hanced with many popular ext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incr Tcl], TclX, expect, tcllib, Bwidgets, iwidgets, tktable, tkc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andard batteries-included distribution for Tcl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for Win, Lin, Sol, HP-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repository (still) in the 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 Developer Xchan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tdx-may2003" descr=""/>
          <p:cNvPicPr/>
          <p:nvPr/>
        </p:nvPicPr>
        <p:blipFill>
          <a:blip r:embed="rId1"/>
          <a:stretch/>
        </p:blipFill>
        <p:spPr>
          <a:xfrm>
            <a:off x="1000080" y="990720"/>
            <a:ext cx="7229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cl’Europe 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reas Kup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 Cookbook on ASP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ASPN_Tcl_Cookbook" descr=""/>
          <p:cNvPicPr/>
          <p:nvPr/>
        </p:nvPicPr>
        <p:blipFill>
          <a:blip r:embed="rId1"/>
          <a:stretch/>
        </p:blipFill>
        <p:spPr>
          <a:xfrm>
            <a:off x="1143000" y="1192320"/>
            <a:ext cx="6934320" cy="52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Professional Tcl bund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ed December 2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(based on TclPr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modo Pro 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fari Bookshelf online boo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3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4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25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Tcl Dev K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-launched TclPro as updated commercial quality “Tcl Dev Ki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bugg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source-level debugger with G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find errors without running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App (Wrapper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self-contained applications for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il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protect your sourc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3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Tcl Dev K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and enhanced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ver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overage and hot-spot analysis built into the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Sv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and manage Tcl scripts as Windows NT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Ap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ewrite of the wrapper based on VFS and starkit 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pec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untime Tcl application browser to complement the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features and UIs for original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5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6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37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Komod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essional IDE for scripting langu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essional IDE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ght integration with Tcl Dev K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que Tcl editing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Tk GUI 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-platform (Windows &amp; Linu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supports Perl, Python, PHP, XSLT and m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s to fol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1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2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43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Komodo 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komodo" descr=""/>
          <p:cNvPicPr/>
          <p:nvPr/>
        </p:nvPicPr>
        <p:blipFill>
          <a:blip r:embed="rId1"/>
          <a:stretch/>
        </p:blipFill>
        <p:spPr>
          <a:xfrm>
            <a:off x="638280" y="1030320"/>
            <a:ext cx="7819920" cy="57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Fu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ing development of Tcl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2.6 released May 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debugger with std channel inte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amped Inspector 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3.0 on the drawing 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I Builder v2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many widgets 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u 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5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Plugi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lugin-may2003" descr=""/>
          <p:cNvPicPr/>
          <p:nvPr/>
        </p:nvPicPr>
        <p:blipFill>
          <a:blip r:embed="rId1"/>
          <a:stretch/>
        </p:blipFill>
        <p:spPr>
          <a:xfrm>
            <a:off x="4343400" y="2984400"/>
            <a:ext cx="4495680" cy="341640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s baaaaaack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IE6 and latest NPAPI brow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ill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3.0 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8.4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ps with TD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istribu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In the Community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Tcl’ers Wiki has increased in activ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iki.tcl.t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Tcl Developer Xchange official UR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ww.tcl.t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tcl.ActiveState.com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-URL! continues to provide weekly new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ww.ddj.com/topics/tclur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Or subscribe to </a:t>
            </a:r>
            <a:r>
              <a:rPr b="0" lang="en-CA" sz="2000" spc="-1" strike="noStrike" u="sng">
                <a:solidFill>
                  <a:srgbClr val="0066ff"/>
                </a:solidFill>
                <a:uFillTx/>
                <a:latin typeface="Arial"/>
              </a:rPr>
              <a:t>tcl-announce@listserv.activestate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ots of extension up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701680" y="2021040"/>
            <a:ext cx="27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heck out the wik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Toda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wnload rate stead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: 5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x: 4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 now considered the stable 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virtual file system (VF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performance enhanc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d locale support in T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ts now exist for Windows/CE and Pal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564160" y="1447920"/>
            <a:ext cx="3289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eTcl downl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poi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2x ActivePython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1/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ctivePerl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has happene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s in the Tcl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s of the Tcl/Tk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8.4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.3 released May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 added spinbox, labelframe, panedwindow wi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core feature enhanc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FS, lset, command tra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ificant work on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+% performance improvement over 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ar or better than 8.0, but now unicode aware and thread-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-bit integer and file-syste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8.4 (cont.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book4cover_sm" descr=""/>
          <p:cNvPicPr/>
          <p:nvPr/>
        </p:nvPicPr>
        <p:blipFill>
          <a:blip r:embed="rId1"/>
          <a:stretch/>
        </p:blipFill>
        <p:spPr>
          <a:xfrm>
            <a:off x="5715000" y="2286000"/>
            <a:ext cx="3244680" cy="431964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widget have updated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ound buttons (simultaneous image and tex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ymmetric pad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books from Fly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Welch coming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d for 8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8.5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ly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schedule not final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ning Q4’03/Q1’04 f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erous TIPs already targeting 8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’ data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ed ‘expr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als for more wi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ty input is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9.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drawing board, but really just at the wishlist 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ionalize C AP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restructuring of Tcl level commands and global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OO / encapsulation features in the core (ensemb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octa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her improv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User Poll: Vers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s in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-8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5 (unreleas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ser Poll: Platform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/Deplo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intosh OS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intosh OS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a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P-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unix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re is guided by community in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one can write a T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one can be a core maintai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5 now in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0 on the drawing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sues are most press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will continue to work with the Tcl community and build more Tcl related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os to fol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deas in the Pipelin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More) improved Tcl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archive file support (.jar/.zi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r source / binary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Instal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-bit overha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modules shipped with core (ie: incr Tc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er, modular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g &amp; Dr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Tk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ing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k abstraction layer (Tk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gawidgets (roll your ow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o Tcl Dev Kit &amp; Komodo demo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ctiveState provides multi-language, cross-platform software &amp;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, Perl, PHP, Python, XS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inux, Solaris, Windows, HP-UX, AIX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ission: Make Programming Eas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oftware development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High quality language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rogrammer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ureMessage email filtering gate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648320" y="2400480"/>
            <a:ext cx="5950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5228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66680" y="2666880"/>
            <a:ext cx="4827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4764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000160" y="2666880"/>
            <a:ext cx="5144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502000" y="2666880"/>
            <a:ext cx="5140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95600" y="2666880"/>
            <a:ext cx="5428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0552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6200000">
            <a:off x="1623960" y="1652400"/>
            <a:ext cx="228600" cy="30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560 h 3019320"/>
              <a:gd name="textAreaBottom" fmla="*/ 2993760 h 30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1733400" y="332388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16200000">
            <a:off x="4162320" y="2180880"/>
            <a:ext cx="228600" cy="1962000"/>
          </a:xfrm>
          <a:custGeom>
            <a:avLst/>
            <a:gdLst>
              <a:gd name="textAreaLeft" fmla="*/ 146160 w 228600"/>
              <a:gd name="textAreaRight" fmla="*/ 228960 w 228600"/>
              <a:gd name="textAreaTop" fmla="*/ 16560 h 1962000"/>
              <a:gd name="textAreaBottom" fmla="*/ 1945440 h 196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3990960" y="3314880"/>
            <a:ext cx="0" cy="1714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0388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09680" y="502920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35268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19320" y="2666880"/>
            <a:ext cx="4860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64984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03848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17868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791320" y="4095720"/>
            <a:ext cx="270504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6649920" y="2971800"/>
            <a:ext cx="0" cy="1123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70572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8168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55308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621036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49568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2388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362320" y="2400480"/>
            <a:ext cx="6429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381480" y="2400480"/>
            <a:ext cx="5950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2400480"/>
            <a:ext cx="5479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538960" y="2400480"/>
            <a:ext cx="5713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649840" y="3029040"/>
            <a:ext cx="59868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17220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962840" y="251460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3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8275680" y="259092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23888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77240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174080" y="240048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4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458200" y="2409840"/>
            <a:ext cx="468360" cy="209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0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900920" y="3029040"/>
            <a:ext cx="468360" cy="209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5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flipV="1">
            <a:off x="2971800" y="327672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6676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9204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320" y="1057320"/>
            <a:ext cx="259056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2280" y="2971800"/>
            <a:ext cx="3029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00400" y="2971800"/>
            <a:ext cx="3029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040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42920" y="4019400"/>
            <a:ext cx="176220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157644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785960" y="1819440"/>
            <a:ext cx="187164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143160" y="480060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2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49568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15000" y="3276720"/>
            <a:ext cx="0" cy="371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934320" y="283860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59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6248520" y="2971800"/>
            <a:ext cx="27018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100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905120" y="348624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133720" y="414324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Pro 1.5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951440" y="5505480"/>
            <a:ext cx="20019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Tcl Dev Kit 2.0 (Au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486400" y="3648240"/>
            <a:ext cx="1127160" cy="4950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.3.5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 8.3 E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029200" y="221940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.0 S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5257800" y="3276360"/>
            <a:ext cx="0" cy="2228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224240" y="1495440"/>
            <a:ext cx="187164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Sep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6934320" y="327636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705720" y="472428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3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705720" y="4334040"/>
            <a:ext cx="100476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613560" y="1933560"/>
            <a:ext cx="20019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Tcl Dev Kit 2.6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068960" y="3543480"/>
            <a:ext cx="19512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July 29 – Aug 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7620120" y="3276360"/>
            <a:ext cx="0" cy="266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001000" y="2619360"/>
            <a:ext cx="7970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5 ?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Usa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usage is still gr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extensively for mission-critical appl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sco, Motorola, Lucent, Nortel, etc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ated hardware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 different pieces of test equi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soon to be standard on all Cisco ro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L Digital City, Traveloc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 Web 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e information from different 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ent developers are not program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Usage, Cont’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mission-critical appl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B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gital broadcast control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x programming content, control transmission through satellites to local s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x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in animation tools (RenderMan softwa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ical directors write Tcl scripts to animate charac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ll Oi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-time control for offshore oil plat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, manage various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tus As of Tcl’Europe 200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/Tk 8.3.4 was the stable v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3 now base standard in Linux dis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4b1 was just rele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ure frozen after 2 years in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ous enhancements and ad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Jeff Hobbs</cp:lastModifiedBy>
  <cp:lastPrinted>1999-01-02T23:07:33Z</cp:lastPrinted>
  <dcterms:modified xsi:type="dcterms:W3CDTF">2003-05-26T19:18:32Z</dcterms:modified>
  <cp:revision>409</cp:revision>
  <dc:subject/>
  <dc:title>Tcl'Europe 2003 State of Tcl</dc:title>
</cp:coreProperties>
</file>