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69320"/>
        <c:axId val="98519059"/>
      </c:barChart>
      <c:catAx>
        <c:axId val="19869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19059"/>
        <c:crosses val="autoZero"/>
        <c:auto val="1"/>
        <c:lblAlgn val="ctr"/>
        <c:lblOffset val="100"/>
        <c:noMultiLvlLbl val="0"/>
      </c:catAx>
      <c:valAx>
        <c:axId val="98519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69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CE20-1092-4A4B-A2AD-8C0C31C8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68FC-993B-4CBA-A2E5-6673F99F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E76-6C58-4449-9F71-C4C92A71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CE6-C519-46C3-BB4E-47D22C88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6A7-7247-4B83-8755-5D21B3DC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075-C951-4173-9428-1E473565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AA88-B771-4504-B696-EB8B5B81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76C-8F9D-4EDE-9D19-25A19443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570-5EB6-45C9-9D5D-2A23C76D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8D8-D780-4BA1-AB54-9F518960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97D-67E5-4C1A-91DC-B6B54CD5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580-D29E-4076-AE62-F287B1A9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9080D-CA9E-49C0-8B6B-C3A4B51C6B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