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37787"/>
        <c:axId val="71386771"/>
      </c:barChart>
      <c:catAx>
        <c:axId val="75737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86771"/>
        <c:crosses val="autoZero"/>
        <c:auto val="1"/>
        <c:lblAlgn val="ctr"/>
        <c:lblOffset val="100"/>
        <c:noMultiLvlLbl val="0"/>
      </c:catAx>
      <c:valAx>
        <c:axId val="71386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37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D72-799F-45B1-B83F-02141CCB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968-3018-4376-9F69-FF6D19D9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52A-1750-41F5-8EFA-39DA5B2A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479-21B1-4CAB-9635-EEE7824A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705-A4CC-408B-B95F-F40D82B1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23E-373E-4F34-ACB8-D7311F75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FBF-A3E7-4A9B-A55C-ACB58F7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2AE-9A73-4A56-A6A6-7A17C73E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C8A-A8E9-4700-8542-A501F79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AE9-3E47-4D8B-AADD-9A195668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A32-CD0A-4099-B7D2-E33D71A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FA6-1EE1-48DA-9E2D-50FA419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D9FD1-EE7A-4C2D-A465-E57E675CCD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