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01513"/>
        <c:axId val="17533054"/>
      </c:barChart>
      <c:catAx>
        <c:axId val="61401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33054"/>
        <c:crosses val="autoZero"/>
        <c:auto val="1"/>
        <c:lblAlgn val="ctr"/>
        <c:lblOffset val="100"/>
        <c:noMultiLvlLbl val="0"/>
      </c:catAx>
      <c:valAx>
        <c:axId val="17533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01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3E2-6EC4-4AC7-87F0-0817AC4A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0AF-D731-4E46-84C2-BB4F7161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05C-C0EE-4162-AC8C-A76E38E4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F21-76AB-42A1-A776-C77A901D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4FC-D947-4409-AB5E-5667C6F9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D25-5006-439C-8668-27C07A40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8EC-1EE4-461A-931E-73D8B491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D22-97F9-4700-BA20-F5297471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2B0-4F51-48BD-9153-2AC7C931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1AA-C7DA-4B13-A662-61659AB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12F-41E4-4555-A64F-39DE289E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A43-9FF6-477B-9756-14B28A65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86C84-D70C-4F49-BD17-DCBBAEC065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