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22924"/>
        <c:axId val="71589955"/>
      </c:barChart>
      <c:catAx>
        <c:axId val="75222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9955"/>
        <c:crosses val="autoZero"/>
        <c:auto val="1"/>
        <c:lblAlgn val="ctr"/>
        <c:lblOffset val="100"/>
        <c:noMultiLvlLbl val="0"/>
      </c:catAx>
      <c:valAx>
        <c:axId val="71589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2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99E-2678-4E8B-B202-8786C841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E84-39DF-468E-90BC-ADB81568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F0F-C970-4B59-BA3C-964D1B4C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FD9-B33B-4F62-9877-5AA615F8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A58-D01A-4B9F-BB7D-927A78DA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640-1241-465A-B870-E0292397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D88-B984-40C7-BE9E-35F68DB7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82E-BECF-4F83-BD0F-9A57E2AB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1AC-8767-48FE-9901-04F75A2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0F7-6F02-4CC5-9360-B702240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4C8-C8FA-4FE5-AE11-1E3365C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228-EFF9-4D9D-AEFC-F32FFCE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128FE-EED0-4B99-A8C8-2B39EDFE47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