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42313"/>
        <c:axId val="7288732"/>
      </c:barChart>
      <c:catAx>
        <c:axId val="20942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8732"/>
        <c:crosses val="autoZero"/>
        <c:auto val="1"/>
        <c:lblAlgn val="ctr"/>
        <c:lblOffset val="100"/>
        <c:noMultiLvlLbl val="0"/>
      </c:catAx>
      <c:valAx>
        <c:axId val="7288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42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7AA-EBA8-4CAF-A622-A28A97A8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77E-5838-4104-AFFA-9196BDB1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E61B-EDDE-4AFB-84B2-DF48ECDA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1AE-4A3C-4D5B-AE06-120B00C6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34C-2394-4983-ACFA-65FF9309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C5E-F7F7-421A-A078-0292F254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8E05-8FF4-40A7-A80C-476B1FBC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919-E398-4D73-A060-837F8F92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9BE-CB5D-44A3-AC62-AEDBFAE7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950A-6007-4997-B556-102B3AF5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8C0-BAFB-4059-A91C-4BD97656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549-916C-4D95-B70C-6A82392C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C58A1-0604-40BA-9E2C-BD6657BDDB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