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50531"/>
        <c:axId val="88017749"/>
      </c:barChart>
      <c:catAx>
        <c:axId val="46750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17749"/>
        <c:crosses val="autoZero"/>
        <c:auto val="1"/>
        <c:lblAlgn val="ctr"/>
        <c:lblOffset val="100"/>
        <c:noMultiLvlLbl val="0"/>
      </c:catAx>
      <c:valAx>
        <c:axId val="88017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50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74A-8A48-44A6-AE72-C6CFFE7B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389-C09B-4FB6-8AE4-A559AF4F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FB3-B04C-44D0-807B-3D4B53EF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FB9-F70C-4969-9E67-47A08793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546-44CC-4636-8F40-1CF796E6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9F2-450F-4ED2-8B21-CFDD67CE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E2E-3FDB-4919-9A81-404F512F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F34-ED3F-49F3-A0AD-59822C6F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E70-B10D-4F7B-BD6C-26FA4B2F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ABF-F10A-43F1-B7A5-FD8978D6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548-8167-401E-BCD6-C50B3A82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041-FDB9-48C0-A7AA-BC990AFF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A80D0-D0B6-4FC5-A149-E13EDD64DE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