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63973"/>
        <c:axId val="82184991"/>
      </c:barChart>
      <c:catAx>
        <c:axId val="87563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84991"/>
        <c:crosses val="autoZero"/>
        <c:auto val="1"/>
        <c:lblAlgn val="ctr"/>
        <c:lblOffset val="100"/>
        <c:noMultiLvlLbl val="0"/>
      </c:catAx>
      <c:valAx>
        <c:axId val="82184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63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3B3-F34F-46B9-BB2E-83390AF0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559-261B-4B6B-9882-B67E8D62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9F1-6A8D-4178-8B47-C581FDE4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72A-B2C3-4EC9-BF81-7C9FF142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E8B-5FD1-437D-971B-4445C4F1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784-12EE-4268-9CE9-B48812BF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C2D-8BAD-4FC3-AFDB-66A19F80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6EA-EB11-45C8-83B8-DCB546A2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0FE-F646-49A9-A301-4F40F4CE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454-F5B8-4A51-B823-067DDF12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41D-D52C-4948-BEDA-324A95EA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18D-1D16-4719-804D-CCA4996E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DA1CA-1E17-45A1-B959-CFE33E141F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