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73540"/>
        <c:axId val="52214048"/>
      </c:barChart>
      <c:catAx>
        <c:axId val="85873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14048"/>
        <c:crosses val="autoZero"/>
        <c:auto val="1"/>
        <c:lblAlgn val="ctr"/>
        <c:lblOffset val="100"/>
        <c:noMultiLvlLbl val="0"/>
      </c:catAx>
      <c:valAx>
        <c:axId val="52214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73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9E8-24F5-4F88-8849-0CC32E24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AE4-E633-44A3-918B-3207D77E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C43-703D-4F62-81B1-3EE82049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DC9-3AE0-4738-84F2-93F9EE51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DD9-24EC-4338-A8BB-AB4E86F3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5BF-382B-460A-8CE8-12BEF47D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C24-3184-4B4C-A88C-73070226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4D9-074C-46C7-828E-5AF7D76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677-7854-45ED-9406-22725A99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879-D10C-4770-8F57-D795810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5E2-A9E7-4088-8775-E4BC659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4CC-772F-410E-981A-21250CE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1BDF6-59FB-4E0B-9A94-E92350E268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