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69830"/>
        <c:axId val="36833741"/>
      </c:barChart>
      <c:catAx>
        <c:axId val="30469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33741"/>
        <c:crosses val="autoZero"/>
        <c:auto val="1"/>
        <c:lblAlgn val="ctr"/>
        <c:lblOffset val="100"/>
        <c:noMultiLvlLbl val="0"/>
      </c:catAx>
      <c:valAx>
        <c:axId val="36833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69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357-01A6-4752-98D2-34DC9680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479-BF2B-44E2-BDA3-B1F0B968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103-5737-4DCE-8490-06A60F9E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F76-A220-42F8-A0E6-E9E4DC76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31A-CD96-4340-B285-94967E7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6FA-C15A-4D90-B384-3822741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57F-D6E5-4B7B-A234-94C3228E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7CC-FD34-455C-B3E9-66174E6E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FDE-64FF-41AF-967D-00614857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CFD-10A8-40C0-B105-8C907332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4E6-D185-4647-A7D2-E4055CF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0D4-8BD3-488F-B2E0-31D7B79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C76D2-A706-457B-8026-19E4507C30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