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828509"/>
        <c:axId val="24427919"/>
      </c:barChart>
      <c:catAx>
        <c:axId val="518285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427919"/>
        <c:crosses val="autoZero"/>
        <c:auto val="1"/>
        <c:lblAlgn val="ctr"/>
        <c:lblOffset val="100"/>
        <c:noMultiLvlLbl val="0"/>
      </c:catAx>
      <c:valAx>
        <c:axId val="244279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8285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F68E-B358-446C-950F-185162B50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498C-20CA-4912-BD3A-C7AF9F7C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C209-0173-42FF-B939-7132DB812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5210-E759-4D66-B783-584827176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3877-01A6-4005-BAB0-4E5E636F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7C49-822F-47FE-9F29-4123C996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C422-E83D-42BC-8926-A1DEB574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43F8-1385-4997-B672-949657B1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FE16-310A-4DFF-864F-A7656C0C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2B84-17FB-4D1E-B307-77752435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EBF8-4217-4399-B3BE-347249CE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CB82-4CE1-4FAC-AEDA-C2B55971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B18A5A-55E2-4A30-B798-A9668095B5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