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22971"/>
        <c:axId val="35376343"/>
      </c:barChart>
      <c:catAx>
        <c:axId val="99922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6343"/>
        <c:crosses val="autoZero"/>
        <c:auto val="1"/>
        <c:lblAlgn val="ctr"/>
        <c:lblOffset val="100"/>
        <c:noMultiLvlLbl val="0"/>
      </c:catAx>
      <c:valAx>
        <c:axId val="35376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22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32B-78D6-4C68-9CCE-71860248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711-8903-4AE8-ADEE-970B4AA8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9B1-3E48-404E-980F-6658429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A52-AECF-4662-8D8A-54B55DCA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872-A1A0-4AC1-8958-A9EAC2BF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DEA-F220-4CF4-9A34-7CC9933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AA1-208C-47BE-BB58-D6E20722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3BE-7B00-45FB-9A01-6AFFDB1E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070-9A2F-4ECA-A53B-A15E0FE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AB2-F714-405D-B70D-8CF2636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E8C-F06C-4D18-93D8-58951F9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51D-9FA0-4ABC-8EC8-7935CFD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F7F2-E3B0-4F25-8A34-1904D1B935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