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23998"/>
        <c:axId val="84897426"/>
      </c:barChart>
      <c:catAx>
        <c:axId val="50239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897426"/>
        <c:crosses val="autoZero"/>
        <c:auto val="1"/>
        <c:lblAlgn val="ctr"/>
        <c:lblOffset val="100"/>
        <c:noMultiLvlLbl val="0"/>
      </c:catAx>
      <c:valAx>
        <c:axId val="848974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239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9515-35B9-4449-AA25-D483371D5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F287-A9D2-46D1-9DBF-947BEB9B1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0DFB-40B8-40EE-BDD5-5C832F449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0E4E-52F5-468E-AE0D-8A213480E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A22B-63E2-4F3E-9A48-0DE40F181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8EE9-BB90-4B03-A008-F5F9968A6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1189-D796-4D8E-AE7D-5DA200430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D909-8C89-498E-BD7D-2BB7190E5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A12C-741D-4DAD-82C6-D08B872BE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0989-3AA8-4D7A-A66F-F4741727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3278-7D8D-4F87-A452-689CB969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F5D5-4919-4571-9D71-DACA59D4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042F7B-A700-4DC5-AD00-83C5BC1222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