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00923"/>
        <c:axId val="98131400"/>
      </c:barChart>
      <c:catAx>
        <c:axId val="15300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31400"/>
        <c:crosses val="autoZero"/>
        <c:auto val="1"/>
        <c:lblAlgn val="ctr"/>
        <c:lblOffset val="100"/>
        <c:noMultiLvlLbl val="0"/>
      </c:catAx>
      <c:valAx>
        <c:axId val="98131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00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710-407A-4429-8668-7B4A820A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8BC-B4B3-47B9-BDB4-6F98816F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C6D-3F5B-4064-BF2C-25ADC485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EED-2052-4DDC-ABB2-1D8C416F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537-7292-40FA-A5F9-D35EB5F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520-B356-444B-8797-6BFB368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666-B421-4EF3-BBED-A6C0993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522-1E8B-4417-99C1-97F95FC2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2AC-3AE5-48C4-987A-962DA0B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88D-E09E-431F-8AEF-EB7637D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A95-6A66-416A-9925-E137A40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7D5-332F-4103-8932-ACAD508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D25C5-648D-4473-98B2-502722BB1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