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13465"/>
        <c:axId val="5387005"/>
      </c:barChart>
      <c:catAx>
        <c:axId val="94913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005"/>
        <c:crosses val="autoZero"/>
        <c:auto val="1"/>
        <c:lblAlgn val="ctr"/>
        <c:lblOffset val="100"/>
        <c:noMultiLvlLbl val="0"/>
      </c:catAx>
      <c:valAx>
        <c:axId val="5387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3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33A-FABC-4135-9D9E-B9F64395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190-E978-4E19-9333-5F5C143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1C9-7206-4016-906C-6B6AFC82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76F-111E-4D2A-AF37-7BAA10E2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CE6-0910-4B40-85B8-5E6FBD13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FCA-3A8A-4408-832B-857D8A2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863-B1DB-4576-AC50-020CBF8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85E-2D80-406A-9B34-2C2A5D4E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A0E-F33B-4BA1-A8D8-67CFF04F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B53-AD38-47EF-B6BB-343F67A4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4B3-5594-49D5-A6F8-A9D1756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729-2F1A-4816-8CB1-D436226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9EC33-8F75-4BF3-AA77-D8E209FD7C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