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26150"/>
        <c:axId val="93133876"/>
      </c:barChart>
      <c:catAx>
        <c:axId val="46926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33876"/>
        <c:crosses val="autoZero"/>
        <c:auto val="1"/>
        <c:lblAlgn val="ctr"/>
        <c:lblOffset val="100"/>
        <c:noMultiLvlLbl val="0"/>
      </c:catAx>
      <c:valAx>
        <c:axId val="93133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26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796-D5F1-475E-AA18-E4119B09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2B7-BD76-4039-AC09-04B2D157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6E1-F8E6-4C45-B31D-EAE916F8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C90-38B7-4AAB-BC4C-5E9DAF54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A6B-9E22-4DA1-8027-47449D9F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A1A-0C82-4DE9-BACB-53EC8ABF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C65-72A4-439C-B126-AAE4DEB3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D7A-70E3-4CCD-A4E0-7E48F5BE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6AF-619B-4079-902E-D8A9D8D2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14A-8B17-408C-B54D-C6D3C477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AE7-0A1C-414A-8FF9-DEFFFEC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EAF-6976-4F60-8379-66D74709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4A744-D021-4123-8895-37A89803B6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