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43501"/>
        <c:axId val="50293836"/>
      </c:barChart>
      <c:catAx>
        <c:axId val="68043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93836"/>
        <c:crosses val="autoZero"/>
        <c:auto val="1"/>
        <c:lblAlgn val="ctr"/>
        <c:lblOffset val="100"/>
        <c:noMultiLvlLbl val="0"/>
      </c:catAx>
      <c:valAx>
        <c:axId val="502938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43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6F8-660E-4074-9754-59FE5512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23F7-ACD7-4515-B4CB-D7C058FB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C436-D2E1-431B-ADCF-275E3813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C5C7-2475-4C07-B92C-E00EF5F9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323F-E952-4261-BF78-7C3FC91B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6092-AAA3-4ABA-8DF0-C738D8E7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9E98-75BD-41C7-B1D9-A466AB90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78DA-1334-4093-A448-F32DC113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19B-F273-4BF3-BCE3-A6126606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F4A-D4C4-4825-ABD1-455D6CF3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B22C-A5BE-4B60-A76A-31B68CD1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3B87-0A22-4A9D-B82D-8B36379B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24B15-2D26-4E3F-BC20-89C084278A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