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8C8F2-B0B9-4524-96C7-DFC03342CE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5C3097-4CFA-495F-96AD-409BBCEF36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C9A23-6610-48E4-B856-CA3FA06C8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E05176-B11D-4C73-AD09-035E7386DB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4CC6F8-0863-4CE9-9012-1FDDCF10DF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3285F-8705-455E-B1CA-D2F97E6D5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42E22-ED04-449F-A56B-56F7DA3D4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8A56E-FAA9-46A7-B96E-9551409C0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A40F6-E0E4-44DA-9255-97C92ED1D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55D39-9C93-43BF-B52A-307C31388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6A076-D877-4EAB-A1CF-D746CBBD0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4FC49-01D9-4610-95F8-4F51C6CBA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F0B1F-C177-4FAA-8976-E7E12FFD41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34CC5-BA51-4E91-89DE-C26811531F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6"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67"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68"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sp>
        <p:nvSpPr>
          <p:cNvPr id="69"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0"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1"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2" name=""/>
          <p:cNvSpPr/>
          <p:nvPr/>
        </p:nvSpPr>
        <p:spPr>
          <a:xfrm>
            <a:off x="4267080" y="4572000"/>
            <a:ext cx="213372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73"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4"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75"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76"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638680" y="624852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
          <p:cNvCxnSpPr>
            <a:stCxn id="73" idx="2"/>
            <a:endCxn id="84" idx="1"/>
          </p:cNvCxnSpPr>
          <p:nvPr/>
        </p:nvCxnSpPr>
        <p:spPr>
          <a:xfrm flipH="1" flipV="1" rot="10800000">
            <a:off x="684720" y="2818080"/>
            <a:ext cx="686520" cy="2553120"/>
          </a:xfrm>
          <a:prstGeom prst="bentConnector3">
            <a:avLst>
              <a:gd name="adj1" fmla="val -33315"/>
            </a:avLst>
          </a:prstGeom>
          <a:ln w="9360">
            <a:solidFill>
              <a:srgbClr val="000000"/>
            </a:solidFill>
            <a:miter/>
            <a:tailEnd len="med" type="triangle" w="med"/>
          </a:ln>
        </p:spPr>
      </p:cxnSp>
      <p:cxnSp>
        <p:nvCxnSpPr>
          <p:cNvPr id="85" name=""/>
          <p:cNvCxnSpPr>
            <a:stCxn id="74" idx="1"/>
            <a:endCxn id="73"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86"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87"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
        <p:nvSpPr>
          <p:cNvPr id="84" name=""/>
          <p:cNvSpPr/>
          <p:nvPr/>
        </p:nvSpPr>
        <p:spPr>
          <a:xfrm>
            <a:off x="1371600" y="5029200"/>
            <a:ext cx="4191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88" name=""/>
          <p:cNvSpPr/>
          <p:nvPr/>
        </p:nvSpPr>
        <p:spPr>
          <a:xfrm>
            <a:off x="1371600" y="5867280"/>
            <a:ext cx="4267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Charles Crouch</cp:lastModifiedBy>
  <dcterms:modified xsi:type="dcterms:W3CDTF">2005-04-14T14:21:23Z</dcterms:modified>
  <cp:revision>45</cp:revision>
  <dc:subject/>
  <dc:title>JBN Admin</dc:title>
</cp:coreProperties>
</file>