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792705"/>
        <c:axId val="65701004"/>
      </c:barChart>
      <c:catAx>
        <c:axId val="387927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01004"/>
        <c:crosses val="autoZero"/>
        <c:auto val="1"/>
        <c:lblAlgn val="ctr"/>
        <c:lblOffset val="100"/>
        <c:noMultiLvlLbl val="0"/>
      </c:catAx>
      <c:valAx>
        <c:axId val="6570100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927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94BCE-2953-4E7C-B4F2-097B123D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47E8-7289-4E6C-BC8C-4FCA31793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5F6F6-8BC6-482C-8871-8053C8FBE2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46DC5-793D-4278-9893-64247AA68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68304-3328-4E8B-9ABF-3A732FF6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A279-124C-4135-AA2A-E24C0D451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5B5D-D6F2-40C0-9F7D-212B0E967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F9011-2E52-482D-8DA5-87053C745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C24E-7760-490B-9F09-ED37BF92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714F3-3CE3-4AF6-B819-18089B08A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C0A68-5500-4DF2-AF0C-E8D4801FD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EA1B-4C3E-4186-9798-C018CB5F2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E1DB87-A8FA-4ADB-BEFB-EB0529C36D7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