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9735702"/>
        <c:axId val="49953073"/>
      </c:barChart>
      <c:catAx>
        <c:axId val="9973570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953073"/>
        <c:crosses val="autoZero"/>
        <c:auto val="1"/>
        <c:lblAlgn val="ctr"/>
        <c:lblOffset val="100"/>
        <c:noMultiLvlLbl val="0"/>
      </c:catAx>
      <c:valAx>
        <c:axId val="4995307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73570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1847E-508D-4C9A-A0EE-8AE854348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6D919-1AE5-478D-8AF3-A1C760AD7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CAA43-47F8-4590-AFF3-3A68F4879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7C89E-A71C-4D25-8A6C-69A1891D0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6F17D-1FA0-4246-8834-C9DDF6DBC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ED25E-42A9-44EF-ACF4-DE639F97F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F7CC9-E832-411F-81F1-706C5213C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4AB59-07AC-4251-8CDF-F268BC1DD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BCD60-4546-49A2-902F-F3C816C41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74FBD-2C73-4AE2-9311-8CC90EE5C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4635C-27DF-4D58-8036-3BF9623DF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FFD56-A50F-45E8-B342-150DA77BB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616F1A-44F7-4562-9344-FD168D03F0E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