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668334"/>
        <c:axId val="81747375"/>
      </c:barChart>
      <c:catAx>
        <c:axId val="946683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47375"/>
        <c:crosses val="autoZero"/>
        <c:auto val="1"/>
        <c:lblAlgn val="ctr"/>
        <c:lblOffset val="100"/>
        <c:noMultiLvlLbl val="0"/>
      </c:catAx>
      <c:valAx>
        <c:axId val="817473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683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DAC5-2B5E-4D2E-8769-BAADD731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A731-8CF7-4E24-BE32-74C18341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0E96-A1DB-4BA7-9ED4-BA6E038A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363B-02EF-43D4-AD89-5DD245DD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896D-E24A-4376-8781-5E92C924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7E2D-22B6-455B-9838-05031228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B99D-072A-465B-BD23-4DBD3A7A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F0A-F333-480F-8C6E-6C6834BE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0F19-0359-4054-A97B-5BD9521C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34AE-578D-4609-8E32-7DA87E58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A6CB-8780-4360-A68C-60CF5B94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0AE0-5D60-48B7-B55B-F25983BB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AA1B0-F497-4EDA-B1BC-1F69BB92FF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