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157722"/>
        <c:axId val="6127533"/>
      </c:barChart>
      <c:catAx>
        <c:axId val="231577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7533"/>
        <c:crosses val="autoZero"/>
        <c:auto val="1"/>
        <c:lblAlgn val="ctr"/>
        <c:lblOffset val="100"/>
        <c:noMultiLvlLbl val="0"/>
      </c:catAx>
      <c:valAx>
        <c:axId val="61275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1577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858E-581F-4C7D-8D14-720E76B97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6A2E-B5CD-47F1-BEA0-01E085B0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7C81-3244-49DC-8D9B-F9EEDA0D4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42F4-4566-46D2-8066-1B217CD5F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81F8-80B9-43EE-9FDB-A59F9725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725E-1D8E-485D-BE9B-10D9C5B3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EB70-9B3D-4886-9254-C57D800B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2507-C65B-4118-93D3-56778F66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0BCD-3AAE-4A48-B82D-A4B4E3CA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B59A-76EF-421E-A99A-7609F941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0EC2-0DEE-4263-8F23-DC949897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A3DF-A7F3-49EF-A6C4-FB200C48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6470E1-B799-4F80-B122-E52892E267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