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37480"/>
        <c:axId val="62382609"/>
      </c:barChart>
      <c:catAx>
        <c:axId val="46937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82609"/>
        <c:crosses val="autoZero"/>
        <c:auto val="1"/>
        <c:lblAlgn val="ctr"/>
        <c:lblOffset val="100"/>
        <c:noMultiLvlLbl val="0"/>
      </c:catAx>
      <c:valAx>
        <c:axId val="62382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37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EF1-5D94-4A6C-A3E0-3F1FFA03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954-CFB1-4245-9A61-C401A1AE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A8B-CA61-4D3C-BF57-B546116C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0CF-9DF1-431D-A7D2-3990B4BA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5B9-4A35-424E-8A34-720D309A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A3C-6060-4905-A3B5-9B98F173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990-BC44-440A-ADE1-68CFA7DA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C01-26E3-4D3B-8946-2AB8D2F2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962-D342-4897-A3C5-9764CBDB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7EE-B1CE-4AA3-A6E9-9F570170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897-3E63-40E5-8EAE-7FCD3CD9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6E6-3A67-4860-9935-1456D251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23470-5A89-484E-80D9-775F58A3D8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