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54448"/>
        <c:axId val="25353094"/>
      </c:barChart>
      <c:catAx>
        <c:axId val="22054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53094"/>
        <c:crosses val="autoZero"/>
        <c:auto val="1"/>
        <c:lblAlgn val="ctr"/>
        <c:lblOffset val="100"/>
        <c:noMultiLvlLbl val="0"/>
      </c:catAx>
      <c:valAx>
        <c:axId val="25353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54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DFB-3418-48BE-B3DB-4745C6BA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F68-042B-4321-8515-45417FC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8A7-54BB-4037-AE67-1FF728CC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36D-EA24-4107-987B-74921223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2EB-6EF0-4068-A272-B2DED96D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106-0478-41DF-B450-97143AE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EDE-A4A5-4C2E-996A-C9E445C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8CE-3139-4799-8A8C-41B445A3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B82-F6C9-4518-9A90-A52F386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410-6791-47D2-A713-8EEFCCDD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B33-4927-40E5-AD50-D3ADAF7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885-6603-4CE2-A155-14953F0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495B8-DFDE-4AF8-9CC1-427F3BE09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