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74ACE2C-2795-4FC0-9FE4-CC5746003C20}"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1B2FFAF-173D-4FCF-AD7B-14C9CE2DAB8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7061DCC-9277-4A85-9BD1-D111200958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0147D1-92E1-4979-95C6-34626A578A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308C242-1E6F-40B5-ACCA-0E724A13EF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8DE77B1-7F38-485C-A803-805E489652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8857E4F-7D45-4025-8D07-2D3FCF3532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E8FDB08-0651-4A92-81F3-C46DBD12C7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036BC05-A413-420B-A80E-045C1FE647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4C2F288-7DEF-4487-B055-BC5CC05786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C96CB16-9F00-4594-A251-ACDAA72DC3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1FCAE4C-BB22-4D47-A131-3428115EB4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B233F18-3B9D-4564-BCCF-16BA301D80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DBEE27-8D04-4E37-A38D-F9D8BEBBDA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1915A86-735F-45F7-83CD-C79263B3E3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D2DF0A9-178F-48B2-90EC-C3526C44DC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910CA99-A38E-4AA4-96DF-03F022EAAF0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C85944E-DC31-4C10-8EE9-0C0B96D50A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F5525C9-EFB3-4712-8D8C-6A23899770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0FA7E3-CEFF-41C1-A06A-09EEB2A387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8A42F0-9948-4B8D-8746-F36D7436E4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5DB2B6-0F5B-4F64-83F7-55EADDF78B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747EC8-E350-4C9F-912F-42425FC7B0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A7BC6A-14D3-4122-8065-3FAE3BC43B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694AC7-708E-4EC8-B8E7-57974893C7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F9327F-A2BB-499F-82CF-02D4D1B7FF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B14E1-FC20-4F54-B9AD-66AC5150BEC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A9436-D2FB-4A30-99B1-75AFDDD8F2A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30DEAA-085C-42D6-B5D9-925F6A8C1B6E}"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94CD16-EE14-4463-93FF-8B3C75BF40B6}"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90E447-123D-4611-AE14-AAA440773840}"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4E4F72-22A8-47F8-A414-62C7CC2C3D47}"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CC9E9F-1927-4D91-9FD2-2236935F4C9E}"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4DAFD7-9310-4DAE-B1AA-3866882B31FE}"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C833C7-1B7E-4911-946D-F05CAE5DD0E2}"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8A0D33-68C8-4CE6-B1BC-1DFCA802EDA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E149A81-55A4-4C6B-B899-A0C80D6940E3}"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EF856E-26C8-485B-8451-6F81261083EB}"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798CDDC-1FC3-4BA8-9AA2-DF530D42C21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DF5E40-C6E2-43A6-A61E-7B51831872F3}"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96175D-6062-4336-8EDC-034063628D1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EE43AC-32E6-4DE9-A8DC-8523F83772D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5C443D-646D-4B19-B81D-3B5D9A25BB6F}"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3F22D8-3759-403A-BEEC-E8F028746EC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11EBE62-6B2D-4890-BB34-E6257560AC99}"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DAD938-68E4-4FEB-BF93-ED34648F9B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E7DE3F86-E59F-414F-BA62-A87406B9844C}"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DC1A4F-BE8D-46D5-80FE-329994DEFCC1}"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554090-883E-4BFF-ABDC-19AD23AF52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8373C1-70E9-404B-B083-868EA270C3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E389C2-A17B-43AF-8F9E-7D2881310559}"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942954-744C-4505-B676-982C36BE8D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8012FF-0A50-4AD9-B6EE-CABE877155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92DB6C-F904-4E33-91EB-A0D6894255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8FCC495-838B-4657-8625-950DF06054FB}"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A5D18A7-2E14-427F-91E3-72056EF97E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05F945-3048-4F31-BB5F-FA8C3B50AB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D2BBD78-563E-4EFC-8E76-8AD4D30FD9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8CE7A9-2E3C-440A-9F7B-24DCCF2AF904}"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FE2D478-96E7-4641-8828-BFA2F23D53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B2815DE-5896-47BC-B2A3-0EC0DBBA92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F01B9F-20E1-4DC4-8D36-B9B2EF237F4E}"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DDF8B8-07C5-4A99-8BCA-C0E6ECD88D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17484E-A8ED-4BBE-B4BE-1E4060608C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03BA77-A00A-4A19-8D14-A5E1DEF2A0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9ED5C8-4B42-4232-AD28-492D496DD9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208251-FCF4-4A24-92E9-EF0B791C352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C001A1-4B6A-49BF-9F9B-4625934154F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4A495A-590D-4404-8C30-2C1091A0EB6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B31C02-4CB6-41CA-9BB4-496517DA05A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776DC9-4FD4-4277-A737-383216A13D9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D5C992C-92BF-4FDC-B1D9-9A5065FDEF8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E13A56-1931-4B13-A5A7-01422C12A1D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72BCD4-87D7-44FF-B35F-AAF67742DB3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30D23B-22EA-4882-8136-F679FAD1D04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217F41-8362-46B6-A2EB-8AF1733FED2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9DD09A-488C-4903-A73C-121BC59E490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097558-0BFB-41E6-8517-19CF43C7268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747B6FA-FB1C-4D80-BE45-7244347059E8}"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87756D-9A9E-4A75-A726-0B9A87D2C99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8CAC8B-B7CF-4F1E-AE80-72E9B442186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854B4E-067F-423B-A8CE-B093862BDDE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73D49B7-56AD-4A09-9434-AA3B9AC4988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FF84C45-A4A0-4B2E-84A4-4CB27DEF429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3BF097-C985-494E-BA9A-6CF0CB7F1D4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EA2D1E3-D521-4F54-8AA8-252AFB0056A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7476DF-6E19-4875-A826-9D8DAE41299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096E9A-FFD7-4877-ADBA-533D282E511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9F70BFE-D7BC-4CE3-89F7-5F738030827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2E6192-DA0D-414B-8895-3448B1C4D08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1F14CE-55AC-40A9-9BA7-2C8F3A71093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CBF204-758A-4225-9850-8FCDA02387E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5BD01A-6123-42A3-9EA3-2CAFF988826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DF41ED3-C37A-46F7-A890-AC48A3C3AD8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0AE8C8-CB56-412C-B953-078E3B37003D}"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699FFD-7B11-4C3E-A99A-A15BC70C277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0A01C2E-7BED-45FC-9D37-D6458E8D5E11}"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A20A2F-46AE-4828-A89A-3506BC2F185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74A606-1BC0-4548-A418-5BD7B4CFCFC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A35DEE6-EB7E-45FF-BAE2-20AD6EB8708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52ED3E-CA25-4BD4-89AD-C5FA572A8AE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033F2D4-07B4-40B6-9368-288AAB4489E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5D81D0-7277-425C-9FE7-7F22B9A1D93E}"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862C09-B444-4884-9640-1861064CA94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BCA0B3-2680-4056-8ABF-0E20D0DAEFD2}"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FE8B93-1EB2-48E7-83AB-5C3D8DA1484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3413F9-29D8-4A45-97EA-8976FA8A09D3}"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D5C1E42-48CA-4DE2-BDA1-24284859D849}"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6B3DD1-CB33-444F-8F40-29279B41E0C5}"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9710DD-1646-4AEE-A1BD-277CA335CAFA}"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FC974C-C323-4DF0-9E1A-2393BC42307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E3463C8-ECC2-4C5E-8449-DF65E0400CD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1A1A88-1F25-4D4F-A99A-C38581C37783}"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6EB48F-E7AC-4819-925B-73D3A08BA341}"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EFC975-057B-43D4-A9ED-925AD8AB594D}"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7A7171-C2BA-4A56-9BF1-5DC839AB7D2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93F8D5-7DB3-47D1-9253-8DE2A84890F5}"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552D7A-5D26-4B1C-9E1E-A598EC843292}"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186400-3B74-41C8-9F12-CD4CC4D016D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3D9001-4AA2-4151-B9C1-8B646949C7C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065313-E297-43A1-AC79-7F4F3431C128}"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8979C0-C235-44A1-BFEF-FE23F592B4BC}"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A4BA0619-1F62-4107-B6AF-C8CB8B6AD43B}"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91B405-5EBE-48A8-8FF4-2801002FC22B}"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162A7E-528B-40C6-BF16-95BCB728B134}"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183B40-9BDA-434C-877B-271126DE57F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3071D3-82DC-480B-8F87-A328FA85B802}"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39B922-9877-4EE2-8951-C252A37FC2DD}"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A01278A-E58D-4ADE-A43D-40827A252F38}"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80E586-5E38-4DD9-BBDB-DADEF04D4D5D}"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DB96DE-5AC8-4DCE-ADC1-B28A3DDB5F06}"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269C92-24F4-4453-BD75-630D4FA1DF31}"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CDD25F-1AAE-461D-A92B-9637C6FBD99A}"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4ABC37-EF3B-4A51-9D70-9B93FEC2372A}"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A7B122C4-AA5F-450A-9FE2-211F785223C0}"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D76147-56B0-41F2-8725-868649B9E922}"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83BE91-FF95-4EF9-B8F2-A5BEA62DD180}"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616C6C-9FE2-456A-B136-4772D43A53AB}"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F40B40-2B53-4443-94D5-A69EA2882885}"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E1A07CE-F0CB-4356-BD45-19BE2BE729B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