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72AC62-04BD-41A8-ACD0-DE39E2DAAA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F01F67-3C3A-41FB-B421-8F5B84E9D5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A30312-652D-4023-8309-644E3D6E10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EE20DF-BF8F-491B-B81C-C71C4BC176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3101DA-BEA8-49B6-A124-A27A8646AC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D5CB47-B077-4ED6-828C-F707BB4BE1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8F7B9-7A9C-4B19-A0F0-97B8DFF43C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C2590B-E779-40F8-8E46-7655B5DBA5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4FA373-F583-4D1E-A95C-1D14A8A789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0A7914-5543-4918-B450-18D0B86487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A113AA-60C1-43F1-B04C-27DF0DA540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02F3E2-A238-404E-90DC-40A79AACF2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B0749-F494-42BE-B469-0C4E430F6D54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5f5f5f"/>
                </a:solidFill>
                <a:latin typeface="Century Gothic"/>
              </a:rPr>
              <a:t>Click to edit the outline text format</a:t>
            </a: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  <a:p>
            <a:pPr lvl="1" marL="457200" indent="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198108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5400"/>
            </a:br>
            <a:r>
              <a:rPr b="1" i="1" lang="en-US" sz="5400" spc="-1" strike="noStrike">
                <a:solidFill>
                  <a:srgbClr val="990000"/>
                </a:solidFill>
                <a:latin typeface="Century Gothic"/>
                <a:ea typeface="ＭＳ Ｐゴシック"/>
              </a:rPr>
              <a:t>	</a:t>
            </a: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4191120"/>
            <a:ext cx="4267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209680" y="52704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2704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657600" y="5334120"/>
            <a:ext cx="1752480" cy="76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5715000" y="5334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334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4343400" y="4191120"/>
            <a:ext cx="4267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ndy Clement, George Har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 La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6477120" y="533520"/>
            <a:ext cx="2133360" cy="173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36ED3D-1566-499B-8909-C8553E8B16F6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ngineering challenge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ight integration with the J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s expect advanced feat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ger par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 Java model is not inherently exte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723B55-D53B-4440-8164-99C53FDFA2C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ancaster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ge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 outline upd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e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u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and run to break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0B4A09-6B0D-49F0-ADA2-94C7D8775D60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3. new crosscutting views</a:t>
            </a:r>
            <a:endParaRPr b="1" i="1" lang="en-US" sz="36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istening to user feedback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orking with larg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effects of crosscutting can be un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sition of advice can be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ory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I design page and bugzilla reports linked from 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ea typeface="ＭＳ Ｐゴシック"/>
              </a:rPr>
              <a:t>http://eclipse.org/ajd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4572000"/>
            <a:ext cx="8686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636563"/>
                </a:solidFill>
                <a:latin typeface="Arial"/>
              </a:rPr>
              <a:t>I wasn't seeing an advice being executed and the that part of code was little unfamiliar to me. So I had to perform a search to find out the subaspects. If I had the proposed feature, navigating to those aspects would be so much easier. </a:t>
            </a:r>
            <a:r>
              <a:rPr b="0" lang="en-US" sz="2400" spc="-1" strike="noStrike">
                <a:solidFill>
                  <a:srgbClr val="636563"/>
                </a:solidFill>
                <a:latin typeface="Arial"/>
              </a:rPr>
              <a:t> Bugzilla report 509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C3B4E3-2967-4FA7-81AB-D3BA4CB6BD48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505320" y="2666880"/>
          <a:ext cx="5457600" cy="393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3429000" y="2612880"/>
          <a:ext cx="5541840" cy="398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41840" cy="39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6" name=""/>
          <p:cNvGrpSpPr/>
          <p:nvPr/>
        </p:nvGrpSpPr>
        <p:grpSpPr>
          <a:xfrm>
            <a:off x="660240" y="1596960"/>
            <a:ext cx="7315200" cy="790560"/>
            <a:chOff x="660240" y="1596960"/>
            <a:chExt cx="7315200" cy="790560"/>
          </a:xfrm>
        </p:grpSpPr>
        <p:sp>
          <p:nvSpPr>
            <p:cNvPr id="157" name=""/>
            <p:cNvSpPr/>
            <p:nvPr/>
          </p:nvSpPr>
          <p:spPr>
            <a:xfrm>
              <a:off x="660240" y="193032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69720" y="159696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will the advice app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43B33-FC1A-4033-9AC6-54B550A5DBF0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60240" y="1574640"/>
            <a:ext cx="7315200" cy="790560"/>
            <a:chOff x="660240" y="1574640"/>
            <a:chExt cx="7315200" cy="790560"/>
          </a:xfrm>
        </p:grpSpPr>
        <p:sp>
          <p:nvSpPr>
            <p:cNvPr id="163" name=""/>
            <p:cNvSpPr/>
            <p:nvPr/>
          </p:nvSpPr>
          <p:spPr>
            <a:xfrm>
              <a:off x="660240" y="190800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69720" y="157464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as graph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Eclipse call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505320" y="2666880"/>
          <a:ext cx="5457600" cy="39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3429000" y="2612880"/>
          <a:ext cx="5533920" cy="398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33920" cy="39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A51D13-1216-4756-9EBA-D79645E917CB}" type="slidenum">
              <a:t>15</a:t>
            </a:fld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ultiple advice at same join poin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my system has many aspec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their order of execution is relev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declar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precedenc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Debug, Coordinat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7696440" cy="37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EC59DA-1DC0-4561-9123-300DDC3AE2E5}" type="slidenum">
              <a:t>16</a:t>
            </a:fld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380520" y="51051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structure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5791320"/>
            <a:ext cx="8610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wrap-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tensibility and contribution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sourc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APIs for IDE plugins and 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 need contribu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and views can be reu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2280" y="4041720"/>
          <a:ext cx="8763120" cy="24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041720"/>
                    <a:ext cx="8763120" cy="24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CBA44F-B71A-46CE-9618-501071FDA804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Erik Hilsdale, Ji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gunin, 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Andy Clement, M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sten and 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AspectJ in Action"/>
          <p:cNvPicPr/>
          <p:nvPr/>
        </p:nvPicPr>
        <p:blipFill>
          <a:blip r:embed="rId1"/>
          <a:stretch/>
        </p:blipFill>
        <p:spPr>
          <a:xfrm>
            <a:off x="6775560" y="1790640"/>
            <a:ext cx="2063520" cy="2476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095880" y="44197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C8B68-8EFD-4EED-98C2-5CC95BDAC2AE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34286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1. aspectj tools suite</a:t>
            </a:r>
            <a:endParaRPr b="1" i="1" lang="en-US" sz="40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04560" y="5181480"/>
            <a:ext cx="755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4419720"/>
            <a:ext cx="7619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F5513C-BE13-4F86-8597-54CCEC56DC48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1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C04765-675A-4A47-920D-0B69E9F2C839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build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AE954D-0EF3-4465-94A2-523822D91894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etbeans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85CBCF-67BE-45B4-9187-B672EA9F043F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jbrows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06B5AB-A86E-4459-927F-17CD941B3462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mac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B4FCA2-B195-40E3-8766-9A9003CC3E9E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lipse (up to 3.0m4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59676F-92DE-45C8-9AC3-7F75F2EF6428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2. next generation ajd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03-25T15:08:41Z</dcterms:modified>
  <cp:revision>500</cp:revision>
  <dc:subject/>
  <dc:title>Aspect-Oriented Programming with AspectJ</dc:title>
</cp:coreProperties>
</file>