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230"/>
        <c:axId val="77925165"/>
      </c:barChart>
      <c:catAx>
        <c:axId val="182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5165"/>
        <c:crosses val="autoZero"/>
        <c:auto val="1"/>
        <c:lblAlgn val="ctr"/>
        <c:lblOffset val="100"/>
        <c:noMultiLvlLbl val="0"/>
      </c:catAx>
      <c:valAx>
        <c:axId val="77925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9C5-A6AB-4C33-9000-F23B7168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E1C-4752-453A-A8FE-97586DDA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0B7-482D-4F59-837F-EACA108C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5F5-600D-4C55-95FD-A7BA1F36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D66-0084-4634-8D08-434B15F3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8A4-931A-416C-BB75-6AE1B59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9C4-4FCB-4E9D-9C0E-D04BA831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D4C-7764-4D3C-806B-A9007BB5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C61-AB95-4792-B65A-66C626B4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2B1-F68B-428D-A2D6-2CBC0BE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A9A-9161-44F6-831A-A3620B6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263-4D88-4192-B5D8-D6DE446D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27817-D4DD-4EA8-BDC7-29B837E8B0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