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03237"/>
        <c:axId val="89581764"/>
      </c:barChart>
      <c:catAx>
        <c:axId val="17503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81764"/>
        <c:crosses val="autoZero"/>
        <c:auto val="1"/>
        <c:lblAlgn val="ctr"/>
        <c:lblOffset val="100"/>
        <c:noMultiLvlLbl val="0"/>
      </c:catAx>
      <c:valAx>
        <c:axId val="89581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03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C3A-2807-4586-8A2D-CF31CC68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A4B-53CC-458B-ACB9-303B67D2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0A0-BED5-4A14-A6E0-A3F5F637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C56-3594-455F-9E4D-493AD0D1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0E1-F31D-4929-BEAE-256D5280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100-1E8F-4948-9F7D-3A5E16FB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273-3ADA-4C9E-BBE9-4AFB7C7A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DB5-ED9D-4968-87C7-7E5D1ECC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5E8-5E56-4DC9-8C6B-EEDC7745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3B5-FCE3-422F-A7A0-381D3B03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05A-03CE-40BE-B21F-AB77A40D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885-093D-44A2-AEC8-4FE3EC7B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04568-EC5E-4864-9965-A27297C96C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