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305878"/>
        <c:axId val="10614463"/>
      </c:barChart>
      <c:catAx>
        <c:axId val="293058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14463"/>
        <c:crosses val="autoZero"/>
        <c:auto val="1"/>
        <c:lblAlgn val="ctr"/>
        <c:lblOffset val="100"/>
        <c:noMultiLvlLbl val="0"/>
      </c:catAx>
      <c:valAx>
        <c:axId val="10614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058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55E3-2F0B-4F30-AAEB-F22F2FE4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53C6-950E-48CD-BA4F-F6008916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39F-28E6-4C66-9A6E-5A09C0EA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A58B-FC2D-419B-A405-D6C0B073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F308-A327-494F-AEEF-F269E714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B67-5458-47BA-B912-021B43EF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28C-F6A6-4483-875F-54EEB6B5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809-6E6E-4EA1-9B9B-DA15D7B0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CBB-37A4-4EBA-9D84-8B2D8CB5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FE6-DD74-4E76-83B5-C449BDD9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CD9B-6243-4987-B620-313C7213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3FC-1BF2-4F41-A977-80C7DCD5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CC0BB-BB6C-42F5-AE33-727B15E422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