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10704"/>
        <c:axId val="39307906"/>
      </c:barChart>
      <c:catAx>
        <c:axId val="74210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07906"/>
        <c:crosses val="autoZero"/>
        <c:auto val="1"/>
        <c:lblAlgn val="ctr"/>
        <c:lblOffset val="100"/>
        <c:noMultiLvlLbl val="0"/>
      </c:catAx>
      <c:valAx>
        <c:axId val="39307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10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920-AF7D-4576-B991-25A3CC19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C63-05B4-4B5E-AC08-A1887EEE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959-873B-44E5-9BDE-7D2E32F0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C77-B0E0-4C58-8ADA-F622211E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58A-27B2-4318-A056-575AA03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962-4851-43C4-A64E-CE7432C1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D04-DE5F-4AFF-8F88-CFB88BD9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DFD-B38B-4B4A-99A2-652583B6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B5D-AF23-4255-A416-C6057844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0A3-79FF-4119-BB16-1465FE37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583B-E611-4F48-9CBA-A31538C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F93-BCCE-4D79-AB46-D0CF4774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39AF9-9D4E-45B0-836B-95210B5A3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