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14371"/>
        <c:axId val="84423769"/>
      </c:barChart>
      <c:catAx>
        <c:axId val="46814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23769"/>
        <c:crosses val="autoZero"/>
        <c:auto val="1"/>
        <c:lblAlgn val="ctr"/>
        <c:lblOffset val="100"/>
        <c:noMultiLvlLbl val="0"/>
      </c:catAx>
      <c:valAx>
        <c:axId val="84423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14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159-ACB0-4620-936C-BC53118C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757-C535-42B4-BB7F-ECCB8AC8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691-6C1F-44A8-A0E7-A0DD33EC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A76-9AFF-4A7B-8316-5A4800EA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9DE-400F-486F-ACA2-AE6C56DD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3EB-C43A-481C-B54B-C55C61E8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971-D254-437D-B714-E58D95FF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5AC-2432-483C-AB4C-55AAB1D0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AC5-CC24-4171-8AC7-2AD66F6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357-36F7-4887-A03B-BD727FE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F27-ADAF-42F4-8DE6-122D33B6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057-A950-42CD-ADA9-81CF61F4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E821B-3810-4A1F-81D6-456C480221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