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63644"/>
        <c:axId val="32504817"/>
      </c:barChart>
      <c:catAx>
        <c:axId val="71063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4817"/>
        <c:crosses val="autoZero"/>
        <c:auto val="1"/>
        <c:lblAlgn val="ctr"/>
        <c:lblOffset val="100"/>
        <c:noMultiLvlLbl val="0"/>
      </c:catAx>
      <c:valAx>
        <c:axId val="32504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3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99A-5639-40CF-9367-5ED8D523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9D6-FBD3-4A16-9879-B27EAF7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18D-1414-4D8C-B490-16254AEF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C5B-2163-43BC-9156-D1A8FB70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B57-669C-473E-9CBB-8DD39AA5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123-20C1-4F72-AB9C-834C9517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D94-35FE-4329-8EF5-5B9AAEF1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2A5-BF38-4B79-88A4-F473468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D89-3937-453E-A0A3-245853E2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798-089C-4833-99E7-6858B8A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79B-E327-4D65-932A-A82B00F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151-100B-4251-8137-5846092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585FE-2B9C-44CE-8E02-105AE631C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