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98D7F-1E39-40B9-80F7-4CB4EDCDFC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 gets remote Boss EJBs via ClientShellJbnBossManager which goes through JNDI</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ss EJBs get VL Mbean services through VirtualLayerLookupService which goes through JMX</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bean services (aka HQ Managers) get AbstractCommandsClient objects through POJO instantiation.  They also need to get SecureAgentConnections via AgentConnectionUtil (which are passed to CommandsClient).</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sClient will build CommandFramework Commands and send them to the agent over HQ’s protocol (riding over AgentRemoteValues).  The client will get back CommandResponse object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gent server (AbstractCommandsServer) will get a Command, dispatch to CommandExecutor and return the results.  The executor can go to plugins if they need, but not requir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B41299-AF87-42B6-A2EC-0621C2730D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7F7BE6-72D3-4574-956C-E231A6BED5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605589-9D42-4CF6-8189-5D9564E09E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B6B78B-BBC3-4339-89BC-1A30AC933E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A351D-C068-4220-BE67-6CAC786FB4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117E58-BA3C-4EE0-8A15-32C723BB6B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2CABB6-2420-478A-B9F5-D079271DD3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858233-E933-4FEB-94DB-648E233779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5D641-1FC9-4331-BB48-41367CCE26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76EB0-3F90-4B3A-994E-1D61DBA842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D7D4F-2094-4A71-86B7-5AB6E7DC26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8D11A-52C4-4CD3-BB3A-C324192DD5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C94BE-6B0F-4619-A113-4ABA8499A3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214000" y="152280"/>
            <a:ext cx="511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work to add end-to-end functionality to HQ</a:t>
            </a:r>
            <a:endParaRPr b="0" lang="en-US" sz="1800" spc="-1" strike="noStrike">
              <a:solidFill>
                <a:srgbClr val="000000"/>
              </a:solidFill>
              <a:latin typeface="Arial"/>
            </a:endParaRPr>
          </a:p>
        </p:txBody>
      </p:sp>
      <p:sp>
        <p:nvSpPr>
          <p:cNvPr id="49" name=""/>
          <p:cNvSpPr/>
          <p:nvPr/>
        </p:nvSpPr>
        <p:spPr>
          <a:xfrm>
            <a:off x="380880" y="1447920"/>
            <a:ext cx="1295640" cy="1341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50" name=""/>
          <p:cNvSpPr/>
          <p:nvPr/>
        </p:nvSpPr>
        <p:spPr>
          <a:xfrm>
            <a:off x="2666880" y="14479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B)</a:t>
            </a:r>
            <a:endParaRPr b="0" lang="en-US" sz="1800" spc="-1" strike="noStrike">
              <a:solidFill>
                <a:srgbClr val="000000"/>
              </a:solidFill>
              <a:latin typeface="Arial"/>
            </a:endParaRPr>
          </a:p>
        </p:txBody>
      </p:sp>
      <p:sp>
        <p:nvSpPr>
          <p:cNvPr id="51" name=""/>
          <p:cNvSpPr/>
          <p:nvPr/>
        </p:nvSpPr>
        <p:spPr>
          <a:xfrm>
            <a:off x="2666880" y="35053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be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sp>
        <p:nvSpPr>
          <p:cNvPr id="52" name=""/>
          <p:cNvSpPr/>
          <p:nvPr/>
        </p:nvSpPr>
        <p:spPr>
          <a:xfrm>
            <a:off x="4648320" y="3505320"/>
            <a:ext cx="129528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sp>
        <p:nvSpPr>
          <p:cNvPr id="53" name=""/>
          <p:cNvSpPr/>
          <p:nvPr/>
        </p:nvSpPr>
        <p:spPr>
          <a:xfrm>
            <a:off x="6781680" y="3505320"/>
            <a:ext cx="1295640" cy="1341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grpSp>
        <p:nvGrpSpPr>
          <p:cNvPr id="54" name=""/>
          <p:cNvGrpSpPr/>
          <p:nvPr/>
        </p:nvGrpSpPr>
        <p:grpSpPr>
          <a:xfrm>
            <a:off x="8077320" y="5334120"/>
            <a:ext cx="914400" cy="838080"/>
            <a:chOff x="8077320" y="5334120"/>
            <a:chExt cx="914400" cy="838080"/>
          </a:xfrm>
        </p:grpSpPr>
        <p:sp>
          <p:nvSpPr>
            <p:cNvPr id="55" name=""/>
            <p:cNvSpPr/>
            <p:nvPr/>
          </p:nvSpPr>
          <p:spPr>
            <a:xfrm>
              <a:off x="8077320" y="5334120"/>
              <a:ext cx="76176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6" name=""/>
            <p:cNvSpPr/>
            <p:nvPr/>
          </p:nvSpPr>
          <p:spPr>
            <a:xfrm>
              <a:off x="8153280" y="541008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7" name=""/>
            <p:cNvSpPr/>
            <p:nvPr/>
          </p:nvSpPr>
          <p:spPr>
            <a:xfrm>
              <a:off x="8229600" y="548640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grpSp>
      <p:cxnSp>
        <p:nvCxnSpPr>
          <p:cNvPr id="58" name=""/>
          <p:cNvCxnSpPr>
            <a:stCxn id="49" idx="3"/>
            <a:endCxn id="50" idx="1"/>
          </p:cNvCxnSpPr>
          <p:nvPr/>
        </p:nvCxnSpPr>
        <p:spPr>
          <a:xfrm>
            <a:off x="1676520" y="2118600"/>
            <a:ext cx="990720" cy="360"/>
          </a:xfrm>
          <a:prstGeom prst="straightConnector1">
            <a:avLst/>
          </a:prstGeom>
          <a:ln w="22320">
            <a:solidFill>
              <a:srgbClr val="000000"/>
            </a:solidFill>
            <a:miter/>
            <a:tailEnd len="lg" type="triangle" w="lg"/>
          </a:ln>
        </p:spPr>
      </p:cxnSp>
      <p:cxnSp>
        <p:nvCxnSpPr>
          <p:cNvPr id="59" name=""/>
          <p:cNvCxnSpPr>
            <a:stCxn id="50" idx="2"/>
            <a:endCxn id="51" idx="0"/>
          </p:cNvCxnSpPr>
          <p:nvPr/>
        </p:nvCxnSpPr>
        <p:spPr>
          <a:xfrm>
            <a:off x="3314520" y="2789280"/>
            <a:ext cx="360" cy="716400"/>
          </a:xfrm>
          <a:prstGeom prst="straightConnector1">
            <a:avLst/>
          </a:prstGeom>
          <a:ln w="22320">
            <a:solidFill>
              <a:srgbClr val="000000"/>
            </a:solidFill>
            <a:miter/>
            <a:tailEnd len="lg" type="triangle" w="lg"/>
          </a:ln>
        </p:spPr>
      </p:cxnSp>
      <p:cxnSp>
        <p:nvCxnSpPr>
          <p:cNvPr id="60" name=""/>
          <p:cNvCxnSpPr>
            <a:stCxn id="51" idx="3"/>
            <a:endCxn id="52" idx="1"/>
          </p:cNvCxnSpPr>
          <p:nvPr/>
        </p:nvCxnSpPr>
        <p:spPr>
          <a:xfrm>
            <a:off x="3962520" y="4176000"/>
            <a:ext cx="686160" cy="360"/>
          </a:xfrm>
          <a:prstGeom prst="straightConnector1">
            <a:avLst/>
          </a:prstGeom>
          <a:ln w="22320">
            <a:solidFill>
              <a:srgbClr val="000000"/>
            </a:solidFill>
            <a:miter/>
            <a:tailEnd len="lg" type="triangle" w="lg"/>
          </a:ln>
        </p:spPr>
      </p:cxnSp>
      <p:cxnSp>
        <p:nvCxnSpPr>
          <p:cNvPr id="61" name=""/>
          <p:cNvCxnSpPr>
            <a:stCxn id="52" idx="3"/>
            <a:endCxn id="53" idx="1"/>
          </p:cNvCxnSpPr>
          <p:nvPr/>
        </p:nvCxnSpPr>
        <p:spPr>
          <a:xfrm>
            <a:off x="5943600" y="4176000"/>
            <a:ext cx="838440" cy="360"/>
          </a:xfrm>
          <a:prstGeom prst="straightConnector1">
            <a:avLst/>
          </a:prstGeom>
          <a:ln w="22320">
            <a:solidFill>
              <a:srgbClr val="000000"/>
            </a:solidFill>
            <a:miter/>
            <a:tailEnd len="lg" type="triangle" w="lg"/>
          </a:ln>
        </p:spPr>
      </p:cxnSp>
      <p:cxnSp>
        <p:nvCxnSpPr>
          <p:cNvPr id="62" name=""/>
          <p:cNvCxnSpPr>
            <a:stCxn id="53" idx="2"/>
            <a:endCxn id="63" idx="0"/>
          </p:cNvCxnSpPr>
          <p:nvPr/>
        </p:nvCxnSpPr>
        <p:spPr>
          <a:xfrm flipH="1">
            <a:off x="7277040" y="4846680"/>
            <a:ext cx="152640" cy="487800"/>
          </a:xfrm>
          <a:prstGeom prst="straightConnector1">
            <a:avLst/>
          </a:prstGeom>
          <a:ln w="22320">
            <a:solidFill>
              <a:srgbClr val="000000"/>
            </a:solidFill>
            <a:miter/>
            <a:tailEnd len="lg" type="triangle" w="lg"/>
          </a:ln>
        </p:spPr>
      </p:cxnSp>
      <p:sp>
        <p:nvSpPr>
          <p:cNvPr id="64" name=""/>
          <p:cNvSpPr/>
          <p:nvPr/>
        </p:nvSpPr>
        <p:spPr>
          <a:xfrm>
            <a:off x="1905120" y="21337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65" name=""/>
          <p:cNvSpPr/>
          <p:nvPr/>
        </p:nvSpPr>
        <p:spPr>
          <a:xfrm>
            <a:off x="2819520" y="2895480"/>
            <a:ext cx="457200" cy="381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6" name=""/>
          <p:cNvSpPr/>
          <p:nvPr/>
        </p:nvSpPr>
        <p:spPr>
          <a:xfrm>
            <a:off x="40384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67" name=""/>
          <p:cNvSpPr/>
          <p:nvPr/>
        </p:nvSpPr>
        <p:spPr>
          <a:xfrm>
            <a:off x="60958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68" name=""/>
          <p:cNvSpPr/>
          <p:nvPr/>
        </p:nvSpPr>
        <p:spPr>
          <a:xfrm>
            <a:off x="7467480" y="4876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69" name=""/>
          <p:cNvSpPr/>
          <p:nvPr/>
        </p:nvSpPr>
        <p:spPr>
          <a:xfrm>
            <a:off x="66294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8288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57200" y="646200"/>
            <a:ext cx="1158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Q She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chine</a:t>
            </a:r>
            <a:endParaRPr b="0" lang="en-US" sz="1800" spc="-1" strike="noStrike">
              <a:solidFill>
                <a:srgbClr val="000000"/>
              </a:solidFill>
              <a:latin typeface="Arial"/>
            </a:endParaRPr>
          </a:p>
        </p:txBody>
      </p:sp>
      <p:sp>
        <p:nvSpPr>
          <p:cNvPr id="72" name=""/>
          <p:cNvSpPr/>
          <p:nvPr/>
        </p:nvSpPr>
        <p:spPr>
          <a:xfrm>
            <a:off x="350532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rver Machine</a:t>
            </a:r>
            <a:endParaRPr b="0" lang="en-US" sz="1800" spc="-1" strike="noStrike">
              <a:solidFill>
                <a:srgbClr val="000000"/>
              </a:solidFill>
              <a:latin typeface="Arial"/>
            </a:endParaRPr>
          </a:p>
        </p:txBody>
      </p:sp>
      <p:sp>
        <p:nvSpPr>
          <p:cNvPr id="73" name=""/>
          <p:cNvSpPr/>
          <p:nvPr/>
        </p:nvSpPr>
        <p:spPr>
          <a:xfrm>
            <a:off x="678168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gent Machine</a:t>
            </a:r>
            <a:endParaRPr b="0" lang="en-US" sz="1800" spc="-1" strike="noStrike">
              <a:solidFill>
                <a:srgbClr val="000000"/>
              </a:solidFill>
              <a:latin typeface="Arial"/>
            </a:endParaRPr>
          </a:p>
        </p:txBody>
      </p:sp>
      <p:sp>
        <p:nvSpPr>
          <p:cNvPr id="63" name=""/>
          <p:cNvSpPr/>
          <p:nvPr/>
        </p:nvSpPr>
        <p:spPr>
          <a:xfrm>
            <a:off x="6781680" y="5334120"/>
            <a:ext cx="990720" cy="7617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cxnSp>
        <p:nvCxnSpPr>
          <p:cNvPr id="74" name=""/>
          <p:cNvCxnSpPr>
            <a:stCxn id="63" idx="3"/>
            <a:endCxn id="55" idx="1"/>
          </p:cNvCxnSpPr>
          <p:nvPr/>
        </p:nvCxnSpPr>
        <p:spPr>
          <a:xfrm flipV="1">
            <a:off x="7772400" y="5676840"/>
            <a:ext cx="305280" cy="3852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LI command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commands go into a subsystem package under hyperic_hq/jboss-network/bizapp in package com.jboss.jbossnetwork.bizapp.client.shell (see bizapp.client.shell.tfs or bizapp.client.shell.djl)</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want to create a top-level command (“tfs” or “tms” or “apl”), create ClientShell_x.  Copy-paste an existing one to start off (see ClientShell_tfs).   These extend MultiwordShellCommand and doesn’t have any real processing code.  Just defines the lower 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then need to add your top-level command to ClientShellCommandRegistrar.registerJBossNetworkCommands().  Add a new m_clientShell.registerCommandHandler call.</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lower level commands (“tfs ping”, “tms get”), create ClientShell_x_y classes.  Copy-paste existing ones to start.  These extend our own </a:t>
            </a:r>
            <a:r>
              <a:rPr b="1" lang="en-US" sz="1400" spc="-1" strike="noStrike">
                <a:solidFill>
                  <a:srgbClr val="000000"/>
                </a:solidFill>
                <a:latin typeface="Arial"/>
              </a:rPr>
              <a:t>JBossNetworkShellCommandBase</a:t>
            </a:r>
            <a:r>
              <a:rPr b="0" lang="en-US" sz="1400" spc="-1" strike="noStrike">
                <a:solidFill>
                  <a:srgbClr val="000000"/>
                </a:solidFill>
                <a:latin typeface="Arial"/>
              </a:rPr>
              <a:t> and they can do real command processing on the client side, or more typically, they just pass the command to the Boss and delegate the work there).  They access our remote Boss EJBs to perform task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lientShellJbnBossManager to get handles on remote JBN Boss references (our superclass JBossNetworkShellCommandBase.getClientShellJbnBossManager can get this for you)  Use getClientShell().getBossManager() to get core HQ Bosses if you need to use those.  There’s a lot of them and the give you good functionality.</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getAuthToken() to get the session ID – all Boss methods’ first argument should be this auth token/session I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of these objects live and run in the shell VM – not inside the HQ server or agent.  They remotely access the Boss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the JBoss Network specific superclass allows you to use the same Command Framework that the agents use.  This allows the same object to flow through the system from end to end!  Our Commands also provide syntax help and checking on the client side as well as verification of the command on the server side.  If you use our superclass (JBossNetworkShellCommandBase) and our Commands, you will get onscreen help for fre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EJB Bosse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Bosses regardless of subsystem (Virtual Layer or not) go in hyperic_hq/jboss-network/bizapp under package com.jboss.jbossnetwork.bizapp.server.session.  However, there is no harm in creating subpackages under there if we wish.</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must end in “EJBImpl” for the xdoclet task to process i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doclet will produce some nice EJB utility classes for your Boss (like the Util class and the local/remote/home classe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are just session EJB facades to the Mbean services.  So, really, these are very simple to implement, you just delegate to the Mbean.</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ommend Boss implements the Mbean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Mbean method impl in the Boss just delegates to  Mbean</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find the Mbean server, you use VirtualLayerLookupService.getLookupService().getXXX()</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TopologyFileSystemBossEJBImpl for exampl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pass through the auth token that you get from the call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 NOT have to have an Mbean lay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case, your design is easier – the Boss is the business layer and not just a façade.  It processes the Commands and interfaces directly with the agent 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JB interface is the business interface – it should take Commands from CLI and pass them to agent clien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dd new Bosses, you need to add it to the CLI’s ClientShellJbnBossManag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a private field m_xxxBoss to hold the cached referen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 that m_xxxBoss to null in resetBoss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 method “public XXXBoss getXXXBoss()” metho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e your xdoclet XXXBossUtil class to get the remote home and create a session bean from i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that new session bean reference to m_xxxBoss and return i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getTopologyFileSystemBoss – should be able to copy that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run inside the HQ server and locally access the Mbean services and agent clients</a:t>
            </a:r>
            <a:endParaRPr b="0" lang="en-US" sz="12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Mbean Service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ogous to HQ’s Manager EJB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need Manager EJBs at the moment, so we are going with the lighter weight Mbean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need things like transactioning, we can implement our own Manager EJBs later</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even need this Mbean layer for some things I don’t think.  It just adds another layer that may be redundant.  Think twice if you need an Mbean layer before implementing it.  Your Boss EJB may be all you ne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jboss-network/tfs directory layout and mimic it (see build.xml and /etc/jboss-service.xml; these two build the .sar that deploys your Mbean service). </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 is triggered to create and copy your .sar.  See pack-ear target and the “JBN:” comment in ther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s clean is triggered when the main clean target is called.  See the clean targe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Mbean interface should be such that other objects can implement them (e.g. the Boss EJB).</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hods should accept as first parameter an int which is the auth token/session ID.  With this you can authenticate the user to do things (with PermissionManager EJB).</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have to convert this int to an AuthzSubjectValue; do this via SessionManager.getInstance().getSubject( sessionId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add a &lt;depends&gt; tag on VirtualLayerLookupService so it depends on your service and gets injected with its ObjectName – see jboss-network/virtual-layer/src/etc/jboss-service.xm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need to modify VirtualLayerLookupService so it provides a method to get a proxy to your MBeanService.  Just copy-n-paste from other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methods use the XXXCommandClients to send commands to agents as they deem appropriate. Mbeans can also access HQ Bosses/Manager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the XXXCommandsClient implement the same interface as the Mbean so you can delegate straight to it.  This isn’t a requirement, but it’s a neat design pattern that makes integrating the Mbeans with the agent XXXCommandsClient very eas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Service as an example Mbean servic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services run in the HQ server and locally talk to CommandsClient objec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bean services should take and pass through Command Framework Command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TopologyReferenceWalker/Visitor to help with walking a tree of topology nod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Client</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are HQ agent clien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gent client” related code go into hyperic_hq/jboss-network/agent in the packages com.jboss.jbossnetwork.[yoursubsystem].agent.[client,command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Virtual Layer’s TFS as an example:</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li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ommands</a:t>
            </a:r>
            <a:endParaRPr b="0" lang="en-US" sz="9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few classes to create, but all are very smal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XCommandsApi extends JbnCommandsApi</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lient.XCommandsClient extends Abstract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ommands.ZCommand and ZCommandRespons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Api just has a constructor that calls addSupportedCommandTypes() that sets up what CommandType commands your client suppor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Cli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s your Mbean service’s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sses the XCommandsApi to the superclas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s Command objects, passing them to sendCommandToAgent() which returns a CommandResponse.  That’s all you need to talk to an agent.  No worries about serializing special objects or using AgentRemoteValues… all taken care of for you.  Just worry about writing your business Commands and CommandRespons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 classes for example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pologyFileSystemCommandsApi its less than 50 lines (mostly comment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TopologyFileSystemCommandsClient constructor and ping(int) – simple but functioning exampl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GetFileCommand and GetFileCommandResponse for an exampe of command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remember, a client uses the CommandFramework (hyperic_hq/jboss-network/command-framework) to pass commands to the agent and to receive responses from the agent.  All you need is a Command instance to pass to sendCommandToAgent() from your CommandsClient class.  It returns you a CommandRespons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ommands are used from the front end to the back.  Uniformity throughou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run inside the HQ server and remotely talk to CommandsServer via HQ proprietary protoco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Server</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Servers are HQ agent server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agent server” related code go into hyperic_hq/jboss-network/agent in the packages com.jboss.jbossnetwork.[yoursubsystem].agent.server</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Virtual Layer’s TFS as an exampl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vl.tfs.agent.server</a:t>
            </a:r>
            <a:endParaRPr b="0" lang="en-US" sz="10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s a few classes to create, but all are very small</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XCommandsServer extends AbstractCommands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ZCommandExecutor extends AbstractCommandExecutor (probably one for each ZCommand you have in the commands package) </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CommandsServer is very small; it just has a constructor that passes a CommandTypeExecutorPairs object to the super constructor so it can define what executors will process what commands.  No business methods are in here.  You can also preload plugin managers – see the constructor that takes the String[] pluginTypes (next slide for mor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CommandExecutor is the meat of the agent-side code.  It actually performs the work that has to get done on the agent side.  They have access to the CommandsServer should it need to get things from i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typically one ZCommandExecutor for each ZCommand supported by the 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only one required method you have to impement – execut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need to put your new CommandsServer in the agent – modify the build.xml’s pack-agent target to build your jar, including the proper classes and adding a Main-Class manifes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ANT code that adds the AgentJbnTopologyFileSystemServer.jar as an example</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also add this new jar to /etc/agent.properties in the value for agent.cmdBootstrap</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TopologyFileSystemCommandsServer and PingCommandExecutor for examples – together they are less than 100 lines (most are commen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Hyperic’s PDK</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you need to decide if you can reuse existing plugin types.  You can add new ones if you have to:</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Manager</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a data member and getter to get new manage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plugin type constant and add it to list of known type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Daemo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data member and get/start code in getPluginManager, startPluginManager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our subclasses which extend our JBossNetworkPlugin[Manager] and put in hyperic_hq/jboss-network/</a:t>
            </a:r>
            <a:r>
              <a:rPr b="1" lang="en-US" sz="1200" spc="-1" strike="noStrike">
                <a:solidFill>
                  <a:srgbClr val="000000"/>
                </a:solidFill>
                <a:latin typeface="Arial"/>
              </a:rPr>
              <a:t>product</a:t>
            </a:r>
            <a:r>
              <a:rPr b="0" lang="en-US" sz="1200" spc="-1" strike="noStrike">
                <a:solidFill>
                  <a:srgbClr val="000000"/>
                </a:solidFill>
                <a:latin typeface="Arial"/>
              </a:rPr>
              <a:t>/src/main in package “com.jboss.jbossnetwork.product” or a subpackage (our build.xml will now pick these up) – this follows HQ package naming rules</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 – classes here will go into hq-product.jar</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XXX – classes here will go into product specific XXX-plugin.ja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our plugins require other classes in hq-product.jar, add the &lt;include&gt; tags in build.xml, target “pack-pdk-lib” – see the comment “JBN: add our plugin cod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command executors can access our plugin managers via getCommandsServer().getPluginManager(pluginName) where pluginName is ProductPlugin.TYPE_xxx constant name.</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ommands servers can preload plugin managers by passing in the plugin type names to the AbstractCommandsServer constructor.  See javadoc for the AbstractCommandsServer(CommandTypeExecutorPairs, String[]) constructor.</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THIS POINT, WHAT DO YOU DO WITH PLUGIN MANAGER?</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DO YOU GET A RESOURCE-SPECIFIC PLUGIN?</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 2</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ach product plugin jar, there is a hq-plugin.xml (e.g. in hyperic_hq folder, there is /plugins/jboss/etc/hq-plugin.xml) which contain the info on what plugin types/plugin classes are associated with versions of the specific produ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server&gt; and &lt;service&gt; tags can have child element of &lt;plugin&gt;</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type of plugin (e.g. control or provisioni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Java class of the plugin (e.g. JBossJMXControlPlugin)</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product (JBoss, Apache, etc) we create a subclass of our plugin.  For example, ProvisioningPlugin extends GenericPlugin.  To support provisioning JBoss “things”, we need to write JBossProvisioningPlugin.</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ember to put classes in com.jboss.jbossnetwork.product.XXX package where XXX is jboss, apache, hqagent, iis, iplanet, servlet, system</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Q does some weird things that don’t follow a particular pattern.  It looks like at this point, we can do what we want with our plugin hierarchy.  For example, the ControlPlugin (which extends GenericPlugin) has thi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Plugin&lt;-JBossControlPlugin &lt;- JBossServiceControlPlugin &lt;- JBossJMXControlPlugi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for the “server” control (as opposed to “service” control) is upside down</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Plugin&lt;-ServerControlPlugin&lt;-JBossServerControlPlugin</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Big Picture:</a:t>
            </a:r>
            <a:br>
              <a:rPr sz="4000"/>
            </a:br>
            <a:r>
              <a:rPr b="0" lang="en-US" sz="4000" spc="-1" strike="noStrike">
                <a:solidFill>
                  <a:srgbClr val="000000"/>
                </a:solidFill>
                <a:latin typeface="Arial"/>
              </a:rPr>
              <a:t>Thinking end-to-end</a:t>
            </a:r>
            <a:endParaRPr b="0" lang="en-US" sz="40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what you need to think about when you need to create this stuff</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CLI commands do I want to support? Create ClientShell_x_y classes for each command.  Typically they mimic your agent Command definition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Boss EJBs (or new Boss methods to existing Boss EJBs) do I need to write to support the CLI commands (and to support the GUI – which goes directly to the Boss)?  Create BossEJBImpl classes/methods.  They may simply be delegate methods delegating Mbean interface method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Mbean services (or new Mbean methods to existing Mbean services) do I need to support the CLI and GUI?  Add new Mbean interfaces or Mbean interface methods and bubble up changes to the Boss and down to the CommandsClient.  Think twice – do you really need an Mbean layer?</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CommandsClient (or new methods to existing CommandsClient) do I need to support the Mbean services?  Create  Command/CommandResponses and add them to the CommandsApi definition to indicate what the client supports.  Implement the new methods in  CommandsClient (may be the same method signatures as the Mbean servic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the new Commands the client has to support, add CommandExecutor classes to the server.  Implement CommandExecutors to do the real work on the agen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gure out what types of plugin code we need (I don’ t know the answer to thi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8T04:09:23Z</dcterms:created>
  <dc:creator>John Mazzitelli</dc:creator>
  <dc:description/>
  <dc:language>en-US</dc:language>
  <cp:lastModifiedBy>John Mazzitelli</cp:lastModifiedBy>
  <dcterms:modified xsi:type="dcterms:W3CDTF">2005-06-09T02:59:39Z</dcterms:modified>
  <cp:revision>34</cp:revision>
  <dc:subject/>
  <dc:title>Slide 1</dc:title>
</cp:coreProperties>
</file>