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7B30-E355-42C3-9FEC-96E8F130B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be doing th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reg and I will be assisting you with the l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82B39E06-388E-45CB-959B-E3842A43A187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– Jan/Feb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les Crouch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pen source admin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g Hinkle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f numerous open source projec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C4J, JarJunkie, Carbon and Chir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hn Mazzitelli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teria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one should have a C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the CD you will nee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ary JBoss Operations Network distribution for the O/S you are ru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py the files to a temporary directory on your laptop, but *DON’T* start installing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architecture and feature-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installation and configu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Portal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 JBoss AS with JBoss 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4:51Z</dcterms:modified>
  <cp:revision>80</cp:revision>
  <dc:subject/>
  <dc:title>JBN Enterprise Management</dc:title>
</cp:coreProperties>
</file>