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483B4-7141-4D83-ADDA-8F69305C93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EE4C96-EDF0-45F1-9480-737EBF736C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E33BB3-3B19-42D1-B2C5-89613B0CA2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F792C1-E501-4AC4-A620-AA0F0F25F3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475E41-251A-465D-B8D0-FB4678FD72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097AFB-D8D3-4C11-BA5F-9A0F6BA0E8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836D6B-4E65-4853-A227-9A07C7AF99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770B68-71C4-4574-BB4C-DAC8D525BB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892041-2FAF-406C-AD61-B8EEA37DA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5CE127-F38F-4476-BD23-E1FA3DA78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1E965-17C2-4DD6-9E95-76B6C6EE5D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C4C2D-2064-423C-944C-12434B58A0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F36E6-43B7-4ED6-810B-971C45A14D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30465-42AF-4B18-8B1B-92CDCF043B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6"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67"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68"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sp>
        <p:nvSpPr>
          <p:cNvPr id="69"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0"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1"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2" name=""/>
          <p:cNvSpPr/>
          <p:nvPr/>
        </p:nvSpPr>
        <p:spPr>
          <a:xfrm>
            <a:off x="4267080" y="4572000"/>
            <a:ext cx="213372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73"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4"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75"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76"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638680" y="6248520"/>
            <a:ext cx="990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3" name=""/>
          <p:cNvCxnSpPr>
            <a:stCxn id="73" idx="2"/>
            <a:endCxn id="84" idx="1"/>
          </p:cNvCxnSpPr>
          <p:nvPr/>
        </p:nvCxnSpPr>
        <p:spPr>
          <a:xfrm flipH="1" flipV="1" rot="10800000">
            <a:off x="684720" y="2818080"/>
            <a:ext cx="686520" cy="2553120"/>
          </a:xfrm>
          <a:prstGeom prst="bentConnector3">
            <a:avLst>
              <a:gd name="adj1" fmla="val -33315"/>
            </a:avLst>
          </a:prstGeom>
          <a:ln w="9360">
            <a:solidFill>
              <a:srgbClr val="000000"/>
            </a:solidFill>
            <a:miter/>
            <a:tailEnd len="med" type="triangle" w="med"/>
          </a:ln>
        </p:spPr>
      </p:cxnSp>
      <p:cxnSp>
        <p:nvCxnSpPr>
          <p:cNvPr id="85" name=""/>
          <p:cNvCxnSpPr>
            <a:stCxn id="74" idx="1"/>
            <a:endCxn id="73"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86"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87"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
        <p:nvSpPr>
          <p:cNvPr id="84" name=""/>
          <p:cNvSpPr/>
          <p:nvPr/>
        </p:nvSpPr>
        <p:spPr>
          <a:xfrm>
            <a:off x="1371600" y="5029200"/>
            <a:ext cx="41911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88" name=""/>
          <p:cNvSpPr/>
          <p:nvPr/>
        </p:nvSpPr>
        <p:spPr>
          <a:xfrm>
            <a:off x="1371600" y="5867280"/>
            <a:ext cx="4267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Charles Crouch</cp:lastModifiedBy>
  <dcterms:modified xsi:type="dcterms:W3CDTF">2005-04-14T14:21:23Z</dcterms:modified>
  <cp:revision>45</cp:revision>
  <dc:subject/>
  <dc:title>JBN Admin</dc:title>
</cp:coreProperties>
</file>