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548dd4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F.Objective()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uthor Name, Company &amp; Website/Ema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7F05F-76B9-43E6-A1BF-C50F13E830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6d9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6d9f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62320" y="380520"/>
            <a:ext cx="6324480" cy="2505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6d9f1"/>
                </a:solidFill>
                <a:latin typeface="Arial"/>
              </a:rPr>
              <a:t>PATTERNS IN ENTERPRISE DEVELOPMENT </a:t>
            </a:r>
            <a:endParaRPr b="0" lang="en-US" sz="4000" spc="-1" strike="noStrike">
              <a:solidFill>
                <a:srgbClr val="c6d9f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362320" y="3428640"/>
            <a:ext cx="632448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John Developer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58ed5"/>
                </a:solidFill>
                <a:latin typeface="Arial"/>
              </a:rPr>
              <a:t>www.johndeveloper.com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2362320" y="2895480"/>
            <a:ext cx="63244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6d9f1"/>
                </a:solidFill>
                <a:latin typeface="Arial"/>
              </a:rPr>
              <a:t>#E123, Enterprise Development</a:t>
            </a:r>
            <a:endParaRPr b="0" lang="en-US" sz="2000" spc="-1" strike="noStrike">
              <a:solidFill>
                <a:srgbClr val="dce6f2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10T01:49:42Z</dcterms:created>
  <dc:creator>Rae</dc:creator>
  <dc:description/>
  <dc:language>en-US</dc:language>
  <cp:lastModifiedBy>Yegor Kozlov</cp:lastModifiedBy>
  <dcterms:modified xsi:type="dcterms:W3CDTF">2008-01-25T18:30:01Z</dcterms:modified>
  <cp:revision>32</cp:revision>
  <dc:subject/>
  <dc:title>Slide 1</dc:title>
</cp:coreProperties>
</file>