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EF25A-C727-4047-BE12-9D8F08F5CBE7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A81A2-2AD7-45A4-B335-0E79FC5272F3}" type="slidenum">
              <a:rPr b="0" lang="en-A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Calibri"/>
              </a:rPr>
              <a:t>Notes head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C3A9F-FF2D-467D-BEE0-B8CB4DABC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4571-FAF7-4CF2-BA78-EC9236AA5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5099C-CA4B-4BC4-9C11-629C5B39B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2F0AA-68F9-4D7B-8C8D-B2D7DED854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6AD0-9BFC-4C64-89FC-189590B88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26C4-5480-4E15-8FDD-0D0EAE8F8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61E4-E38F-454A-9320-36DB65D4E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80F86-FF29-42F4-BFD0-183F04AF1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8000-98FE-48EA-9F68-492211B4C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B0BE0-B5C8-4006-9C81-DB68823FF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AE8F8-150D-40AA-92F9-3E28A21F2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E469-ECFD-4A26-B22F-CC197002D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D817A-54DF-45D9-94C1-FA8C34FA4835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45C5F-87C4-4EA0-8840-309FDF9FA10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f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00040" y="3886200"/>
            <a:ext cx="82152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Has some text in the headers and foot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Slide foo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4:11:17Z</dcterms:created>
  <dc:creator>Windows User</dc:creator>
  <dc:description/>
  <dc:language>en-US</dc:language>
  <cp:lastModifiedBy>Windows User</cp:lastModifiedBy>
  <dcterms:modified xsi:type="dcterms:W3CDTF">2010-05-04T04:13:36Z</dcterms:modified>
  <cp:revision>1</cp:revision>
  <dc:subject/>
  <dc:title>Test file</dc:title>
</cp:coreProperties>
</file>