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37AA-2D16-4D28-AB81-23D31AEA7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7D3A-5CDF-4848-A316-1170296F6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E220-28DC-469E-85A3-34AA635D7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22E6-735D-46EE-AD1F-E772A05D3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EA37-23A2-451B-AB71-5E73D92AE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D236-678C-4494-BBB0-B9146D82E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67CD-32CE-448E-B3CC-4F8AA1AC0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ABAB1-87E1-4E9E-9BA3-D406EF859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71E05-D124-4E92-8473-EF9D3DAFC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E41B4-83C6-40C2-BDAA-C267C6F04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087C1-B5CB-4103-821D-6B4BF5F2B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3E99-B3E2-429F-9E38-766EC53A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54180-A602-4613-A850-F8DBA6501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A18DE-BED4-44D9-8A19-0A4346302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1F4EC-721B-48EF-BEB7-64DBA0CAB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C3784-D812-449A-8BD0-25B6408B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ADCA8-5823-4086-8085-CB8237E0E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34DF7-729D-406D-9F75-F31499738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D5383E-D6A1-4F47-973B-BC2F977E5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C3568-F89E-4C27-BBB2-75308CD19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CAD82-2184-4EDD-B93C-3D930449B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119F46-2211-4198-84C9-F32CFBBE5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2A22D-A43D-493C-87DA-71678C66F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05525-0F0F-480B-BF9B-44339AED6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D14D9-B7B2-4DE8-AFEC-6D7CE8A57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2B72CD-440F-4887-80CA-2CAD7A0A4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D76074-1ACF-4F9E-A781-DA73D8102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89C369-FC2A-4DD5-8D64-D7201B447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1AD5C6-EA57-43E9-9022-401EE8E95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DAC17E-A5F9-4F4A-B983-991E7E40A0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08F7-E943-4375-8952-5A22D857F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B9E9-A41B-4628-800B-C66FF002F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130120"/>
            <a:ext cx="7772400" cy="68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698B4-F3E8-48B4-ACD7-89D43F903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6FD9A-A295-4DA4-BD20-05BF62DD3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E1B35-C4ED-4AA9-BAFF-02F4A95A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91645-EE08-47DC-9521-D6B35A6F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Click to edit the title text format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03392-F5CA-4B37-A93E-EDC94AB2011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Click to edit the title text format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Click to edit the outline text format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1" marL="727920" indent="-280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2" marL="11199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3" marL="156816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4" marL="2016000" indent="-22392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5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  <a:p>
            <a:pPr lvl="6" marL="2016000" indent="-2239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513B7-A5D4-4781-B13A-66339428345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Click to edit the title text forma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9D5C0-4C04-4C19-BEB2-B71B9A0F4F5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Click to edit the outline text format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urier New"/>
              </a:rPr>
              <a:t>Second Outline Level</a:t>
            </a:r>
            <a:endParaRPr b="0" i="1" lang="en-US" sz="2800" spc="-1" strike="noStrike">
              <a:solidFill>
                <a:srgbClr val="000000"/>
              </a:solidFill>
              <a:latin typeface="Courier New"/>
            </a:endParaRPr>
          </a:p>
          <a:p>
            <a:pPr lvl="2" marL="914400" algn="ctr">
              <a:spcBef>
                <a:spcPts val="601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ourier New"/>
              </a:rPr>
              <a:t>Third Outline Level</a:t>
            </a:r>
            <a:endParaRPr b="0" i="1" lang="en-US" sz="2400" spc="-1" strike="noStrike">
              <a:solidFill>
                <a:srgbClr val="000000"/>
              </a:solidFill>
              <a:latin typeface="Courier New"/>
            </a:endParaRPr>
          </a:p>
          <a:p>
            <a:pPr lvl="3" marL="13716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our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4" marL="1828800" algn="ctr">
              <a:spcBef>
                <a:spcPts val="499"/>
              </a:spcBef>
              <a:buClr>
                <a:srgbClr val="333399"/>
              </a:buClr>
              <a:buFont typeface="Georgi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Fif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ix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urier New"/>
              </a:rPr>
              <a:t>Seventh Outline Level</a:t>
            </a:r>
            <a:endParaRPr b="0" i="1" lang="en-US" sz="20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00"/>
                </a:solidFill>
                <a:uFillTx/>
                <a:latin typeface="Arial"/>
              </a:rPr>
              <a:t>Slide Masters</a:t>
            </a:r>
            <a:endParaRPr b="0" lang="en-US" sz="4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PowerPoint presentations can hav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ltipl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mast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The placement and formatting of text objects can be changed on individual slides without affecting the mast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♫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o modify background objects and background animation, you must edit the master, which affects all slides in a pres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000000"/>
                </a:solidFill>
                <a:latin typeface="Georgia"/>
              </a:rPr>
              <a:t>Slide Masters (cont’d)</a:t>
            </a:r>
            <a:endParaRPr b="0" i="1" lang="en-US" sz="4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ourier New"/>
              </a:rPr>
              <a:t>Masters determine placement and formatting of text objects, background objects, and background animation effects for every slide in a presentation.</a:t>
            </a:r>
            <a:endParaRPr b="0" i="1" lang="en-US" sz="3200" spc="-1" strike="noStrike">
              <a:solidFill>
                <a:srgbClr val="0000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333399"/>
                </a:solidFill>
                <a:uFillTx/>
                <a:latin typeface="Arial"/>
              </a:rPr>
              <a:t>I’m a slide with a Title layout</a:t>
            </a:r>
            <a:endParaRPr b="1" lang="en-US" sz="3200" spc="-1" strike="noStrike" u="sng">
              <a:solidFill>
                <a:srgbClr val="333399"/>
              </a:solidFill>
              <a:uFillTx/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Courier New"/>
              </a:rPr>
              <a:t>And I follow the design pattern from the TitleMaster</a:t>
            </a:r>
            <a:endParaRPr b="1" lang="en-US" sz="2000" spc="-1" strike="noStrike">
              <a:solidFill>
                <a:srgbClr val="cc3300"/>
              </a:solidFill>
              <a:latin typeface="Courier Ne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5T08:13:23Z</dcterms:modified>
  <cp:revision>2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