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AABA-EA9C-4B59-97B8-4735E8D0F6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1923-260A-4D70-80C9-65E51E081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0947-7180-4C5B-8824-AF661867E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A48F-D8BA-4190-8091-09460587C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90AB-C5D5-4689-A73C-5EF28B6E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D3F-8E35-40FC-83D4-B9BCB884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E981-FABC-4CC6-AAE5-CD8C529BC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12BC3-8AAA-456B-BB39-45719CE37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81011-3A5B-4278-9ADA-13E7A6588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01CD-184D-492C-A13A-4DC39F84D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F2D9-A3F7-4E45-9C90-8B4A83C07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1938-95AB-46A1-AE68-B13F54AAC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3A975-77A0-449C-B00A-08DF505ACD5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4400" spc="-1" strike="noStrike">
                <a:solidFill>
                  <a:srgbClr val="000000"/>
                </a:solidFill>
                <a:latin typeface="Calibri"/>
              </a:rPr>
              <a:t>SIMPLE TEST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Subtitle 2"/>
          <p:cNvSpPr/>
          <p:nvPr/>
        </p:nvSpPr>
        <p:spPr>
          <a:xfrm>
            <a:off x="533520" y="24382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[SYSDATE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	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2</a:t>
            </a:r>
            <a:r>
              <a:rPr b="0" lang="en-IE" sz="2500" spc="-1" strike="noStrike" baseline="30000">
                <a:solidFill>
                  <a:srgbClr val="ff0000"/>
                </a:solidFill>
                <a:latin typeface="Calibri"/>
              </a:rPr>
              <a:t>nd</a:t>
            </a:r>
            <a:r>
              <a:rPr b="0" lang="en-IE" sz="2500" spc="-1" strike="noStrike">
                <a:solidFill>
                  <a:srgbClr val="ff0000"/>
                </a:solidFill>
                <a:latin typeface="Calibri"/>
              </a:rPr>
              <a:t> Date [SYSDATE2]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20T13:20:02Z</dcterms:created>
  <dc:creator>deskenny</dc:creator>
  <dc:description/>
  <dc:language>en-US</dc:language>
  <cp:lastModifiedBy>deskenny</cp:lastModifiedBy>
  <dcterms:modified xsi:type="dcterms:W3CDTF">2008-05-22T09:32:43Z</dcterms:modified>
  <cp:revision>6</cp:revision>
  <dc:subject/>
  <dc:title>Activity [FROM_MON] – [TO-MON] [FROM_YEAR]</dc:title>
</cp:coreProperties>
</file>