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C7D62-8DF2-4DE8-BBC6-432C3C612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CFF8-504E-44B4-8007-DCF6F2870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5647-BC7F-4522-BFC9-C1A1EF10C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F9377-0851-4E50-81DC-6DEEA5455F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E6D00-6895-45EE-9271-805EF4814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7D5B-BE5D-45B6-926A-E43087D87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DFD89-74F6-46A5-87B2-679AFD51DF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75AD4-72D3-4385-8590-EC56260E4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2B75-2E56-4FDA-8F48-205FDDD6B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A2A5A-6C98-4C4E-81F1-B35FA3CDA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65529-554C-4C05-8660-19FC4695F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6BBBF-DDB5-4847-BD6C-F34EDA6E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1162-8C44-4889-B9D2-70F3773C4D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336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LE Embed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539640" y="1557360"/>
          <a:ext cx="3646440" cy="1158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1557360"/>
                    <a:ext cx="3646440" cy="115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4" name=""/>
          <p:cNvGraphicFramePr/>
          <p:nvPr/>
        </p:nvGraphicFramePr>
        <p:xfrm>
          <a:off x="5006880" y="1557360"/>
          <a:ext cx="3648240" cy="40831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06880" y="1557360"/>
                    <a:ext cx="3648240" cy="40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0T02:05:04Z</dcterms:created>
  <dc:creator>Daniel</dc:creator>
  <dc:description/>
  <dc:language>en-US</dc:language>
  <cp:lastModifiedBy>Daniel</cp:lastModifiedBy>
  <dcterms:modified xsi:type="dcterms:W3CDTF">2007-08-30T02:05:35Z</dcterms:modified>
  <cp:revision>1</cp:revision>
  <dc:subject/>
  <dc:title>OLE Embedding</dc:title>
</cp:coreProperties>
</file>