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670E8-4E79-431A-94FB-98C58D8A81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D70A-611D-4E19-BD11-1F0C9CDEF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7148-C8CD-4835-AFE1-6A5D19F11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FA4D-233B-40A4-850B-1F033D4F4B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2012-509F-4EAF-B888-E1CDE2A2D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0614F-FC7F-4CCE-9248-486FABEF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7354-6331-491D-83ED-BC40BB6D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1E0F-BB86-4651-BB27-4FCA7061EC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A12E-CFE8-48A6-A6F0-DCF40D14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08388-E3A4-46F7-9D0F-4337F984F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BA521-5749-4746-9EBE-F2D1EFB40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19FE-0A09-40E7-A475-357374727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A357C-FFC4-4E3F-BC11-BA78FA47DF5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oneTexte 2"/>
          <p:cNvSpPr/>
          <p:nvPr/>
        </p:nvSpPr>
        <p:spPr>
          <a:xfrm>
            <a:off x="428760" y="928800"/>
            <a:ext cx="157140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oneTexte 6"/>
          <p:cNvSpPr/>
          <p:nvPr/>
        </p:nvSpPr>
        <p:spPr>
          <a:xfrm>
            <a:off x="2357280" y="928800"/>
            <a:ext cx="1571760" cy="6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360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ZoneTexte 7"/>
          <p:cNvSpPr/>
          <p:nvPr/>
        </p:nvSpPr>
        <p:spPr>
          <a:xfrm>
            <a:off x="47149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ZoneTexte 8"/>
          <p:cNvSpPr/>
          <p:nvPr/>
        </p:nvSpPr>
        <p:spPr>
          <a:xfrm>
            <a:off x="7215120" y="92880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6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EST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8T12:23:49Z</dcterms:created>
  <dc:creator>mgrosmaire</dc:creator>
  <dc:description/>
  <dc:language>en-US</dc:language>
  <cp:lastModifiedBy>mgrosmaire</cp:lastModifiedBy>
  <dcterms:modified xsi:type="dcterms:W3CDTF">2008-06-13T14:25:08Z</dcterms:modified>
  <cp:revision>27</cp:revision>
  <dc:subject/>
  <dc:title>Diapositive 1</dc:title>
</cp:coreProperties>
</file>