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826B5C-4518-4940-B5E5-E1EC70AF75C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6835E0-377A-4E08-95A9-9A2511109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CD0820-9ED9-4D35-B944-FB48B79C3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9C848-522C-46E3-91A0-B7257364BE9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72D76-C880-4363-BE63-850447545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DA0D4A-FF02-4D84-9795-B1F77D410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4759C-9415-4B1D-A7F1-B96148669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15D60B-0A50-4448-A3CA-8ACCD8B70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E0E90-B723-4039-85F5-DD24D110F6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BE1FC2-7339-4614-9904-0D45CF2A3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A90E4-22B1-466D-8399-8CEA7AAB8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D686C-7BCD-498F-B3E5-BF19C9E0F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Calibri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434520"/>
                <a:tab algn="l" pos="9883800"/>
                <a:tab algn="l" pos="10333080"/>
                <a:tab algn="l" pos="10782360"/>
              </a:tabLst>
            </a:pPr>
            <a:fld id="{EA5E8EFD-1D94-4D70-A998-87A75DC1A6DF}" type="slidenum">
              <a:rPr b="0" lang="en-US" sz="1800" spc="-1" strike="noStrike">
                <a:solidFill>
                  <a:srgbClr val="000000"/>
                </a:solidFill>
                <a:latin typeface="Calibri"/>
                <a:ea typeface="Segoe U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96880" y="406440"/>
            <a:ext cx="3048120" cy="149868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719280" y="584280"/>
            <a:ext cx="2735280" cy="117144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596880" y="5029200"/>
            <a:ext cx="5041800" cy="161280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0" t="52966" r="0" b="-17608"/>
          <a:stretch/>
        </p:blipFill>
        <p:spPr>
          <a:xfrm>
            <a:off x="1193760" y="5765760"/>
            <a:ext cx="3530520" cy="9781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596880" y="3263760"/>
            <a:ext cx="5041800" cy="106704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rcRect l="2876" t="2526" r="21581" b="46223"/>
          <a:stretch/>
        </p:blipFill>
        <p:spPr>
          <a:xfrm>
            <a:off x="1295280" y="3403440"/>
            <a:ext cx="2667240" cy="7747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308560" y="409680"/>
            <a:ext cx="3048120" cy="1498320"/>
          </a:xfrm>
          <a:prstGeom prst="rect">
            <a:avLst/>
          </a:prstGeom>
          <a:solidFill>
            <a:srgbClr val="3333cc"/>
          </a:solidFill>
          <a:ln cap="sq"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4"/>
          <a:srcRect l="3631" t="5861" r="989" b="25399"/>
          <a:stretch/>
        </p:blipFill>
        <p:spPr>
          <a:xfrm>
            <a:off x="5448240" y="584280"/>
            <a:ext cx="2806920" cy="91440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5947560" y="2205000"/>
            <a:ext cx="3363840" cy="3787200"/>
            <a:chOff x="5947560" y="2205000"/>
            <a:chExt cx="3363840" cy="3787200"/>
          </a:xfrm>
        </p:grpSpPr>
        <p:grpSp>
          <p:nvGrpSpPr>
            <p:cNvPr id="50" name=""/>
            <p:cNvGrpSpPr/>
            <p:nvPr/>
          </p:nvGrpSpPr>
          <p:grpSpPr>
            <a:xfrm>
              <a:off x="5947560" y="2797920"/>
              <a:ext cx="3363840" cy="3194280"/>
              <a:chOff x="5947560" y="2797920"/>
              <a:chExt cx="3363840" cy="3194280"/>
            </a:xfrm>
          </p:grpSpPr>
          <p:sp>
            <p:nvSpPr>
              <p:cNvPr id="51" name=""/>
              <p:cNvSpPr/>
              <p:nvPr/>
            </p:nvSpPr>
            <p:spPr>
              <a:xfrm rot="19560000">
                <a:off x="6291000" y="3371040"/>
                <a:ext cx="2676240" cy="204768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2" name="" descr=""/>
              <p:cNvPicPr/>
              <p:nvPr/>
            </p:nvPicPr>
            <p:blipFill>
              <a:blip r:embed="rId5"/>
              <a:srcRect l="0" t="52966" r="0" b="-17608"/>
              <a:stretch/>
            </p:blipFill>
            <p:spPr>
              <a:xfrm rot="19560000">
                <a:off x="6749280" y="4327560"/>
                <a:ext cx="1874520" cy="123984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53" name=""/>
            <p:cNvGrpSpPr/>
            <p:nvPr/>
          </p:nvGrpSpPr>
          <p:grpSpPr>
            <a:xfrm>
              <a:off x="5954400" y="2205000"/>
              <a:ext cx="1882440" cy="1859400"/>
              <a:chOff x="5954400" y="2205000"/>
              <a:chExt cx="1882440" cy="1859400"/>
            </a:xfrm>
          </p:grpSpPr>
          <p:sp>
            <p:nvSpPr>
              <p:cNvPr id="54" name=""/>
              <p:cNvSpPr/>
              <p:nvPr/>
            </p:nvSpPr>
            <p:spPr>
              <a:xfrm rot="2760000">
                <a:off x="6194520" y="2536920"/>
                <a:ext cx="1431000" cy="1194840"/>
              </a:xfrm>
              <a:prstGeom prst="rect">
                <a:avLst/>
              </a:prstGeom>
              <a:solidFill>
                <a:srgbClr val="3333cc"/>
              </a:solidFill>
              <a:ln cap="sq" w="9360">
                <a:solidFill>
                  <a:srgbClr val="4a7ebb"/>
                </a:solidFill>
                <a:miter/>
              </a:ln>
              <a:effectLst>
                <a:outerShdw dist="23040" dir="5400000" blurRad="0" rotWithShape="0">
                  <a:srgbClr val="000000">
                    <a:alpha val="35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55" name="" descr=""/>
              <p:cNvPicPr/>
              <p:nvPr/>
            </p:nvPicPr>
            <p:blipFill>
              <a:blip r:embed="rId6"/>
              <a:srcRect l="2876" t="2526" r="21581" b="46223"/>
              <a:stretch/>
            </p:blipFill>
            <p:spPr>
              <a:xfrm rot="2760000">
                <a:off x="6150240" y="2600280"/>
                <a:ext cx="756720" cy="8661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8T12:28:29Z</dcterms:created>
  <dc:creator>Don Boulia</dc:creator>
  <dc:description/>
  <dc:language>en-US</dc:language>
  <cp:lastModifiedBy>Andreas Beeker</cp:lastModifiedBy>
  <dcterms:modified xsi:type="dcterms:W3CDTF">2014-12-27T20:55:40Z</dcterms:modified>
  <cp:revision>5</cp:revision>
  <dc:subject/>
  <dc:title>PowerPoint Presentation</dc:title>
</cp:coreProperties>
</file>