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3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move the slide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D14A-BA19-425B-ACA0-7F461B0EB107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38E99-E261-45C2-A699-6DB7F1029C09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3F3EC-029B-4350-9E6A-56F37E8F07B1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2E1B-DC06-4230-A691-512EB7F69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EC4-FC07-4DF6-A346-D72424109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76CF-B838-4640-8EFA-EE8C1755D5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2F947-A811-4AB6-AE80-B1421D0D3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2798F-C887-4CF0-8F7E-719BC8A74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7F07C-FAE2-40BC-A700-149960C34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509D4-EF9D-47C3-BBF4-EB145B144C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96F70-604A-4E4C-834B-5907686F6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A343-9751-4651-9E25-125374138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FEEF8-993C-449C-810D-AA04E73E7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F9A2F-D789-4744-8523-3C5E23BF2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1360-2F58-4C70-BB6D-870B388D6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5C68E-CB86-4227-A0A1-0D2D2B2E6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A0B76-C803-4432-88D3-067524A71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F8033-D55A-4C18-8D09-3F2208255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62763-1FB7-4A8A-8A91-981851CCC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685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31380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5941440" y="3723480"/>
            <a:ext cx="250236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58529-3750-4EA0-833E-FD88D8746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C574-70AA-476E-90D5-C72F73FFE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9AAC-96C7-4678-9A88-431FF7884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5284-4C49-4C86-90FA-CAA312B96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380520" y="380520"/>
            <a:ext cx="80010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6FD0-F8E4-414D-BE2E-7EFC98363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C555-A1C1-4A21-8595-4D628DA50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37234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C2715-C816-47DC-A12B-57561984D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723480"/>
            <a:ext cx="7772400" cy="221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5E6E5-8287-4727-AFB5-00DA9CE5E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99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6699ff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E5B7D-9413-4048-ABB7-6B41D0A185B0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6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8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9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1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12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4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15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17" name=""/>
          <p:cNvGrpSpPr/>
          <p:nvPr/>
        </p:nvGrpSpPr>
        <p:grpSpPr>
          <a:xfrm>
            <a:off x="71280" y="176040"/>
            <a:ext cx="8745480" cy="161280"/>
            <a:chOff x="71280" y="176040"/>
            <a:chExt cx="8745480" cy="161280"/>
          </a:xfrm>
        </p:grpSpPr>
        <p:sp>
          <p:nvSpPr>
            <p:cNvPr id="18" name=""/>
            <p:cNvSpPr/>
            <p:nvPr/>
          </p:nvSpPr>
          <p:spPr>
            <a:xfrm flipV="1" rot="5400000">
              <a:off x="452412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V="1" rot="5400000">
              <a:off x="441360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8f8f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177840" y="230040"/>
            <a:ext cx="202680" cy="6504120"/>
            <a:chOff x="177840" y="230040"/>
            <a:chExt cx="202680" cy="6504120"/>
          </a:xfrm>
        </p:grpSpPr>
        <p:sp>
          <p:nvSpPr>
            <p:cNvPr id="58" name=""/>
            <p:cNvSpPr/>
            <p:nvPr/>
          </p:nvSpPr>
          <p:spPr>
            <a:xfrm flipH="1">
              <a:off x="304200" y="257040"/>
              <a:ext cx="75960" cy="64771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77840" y="230040"/>
              <a:ext cx="76320" cy="62564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8792640" y="220680"/>
            <a:ext cx="199080" cy="6408000"/>
            <a:chOff x="8792640" y="220680"/>
            <a:chExt cx="199080" cy="6408000"/>
          </a:xfrm>
        </p:grpSpPr>
        <p:sp>
          <p:nvSpPr>
            <p:cNvPr id="61" name=""/>
            <p:cNvSpPr/>
            <p:nvPr/>
          </p:nvSpPr>
          <p:spPr>
            <a:xfrm flipH="1" flipV="1" rot="10800000">
              <a:off x="8923320" y="220680"/>
              <a:ext cx="68400" cy="63324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 rot="10800000">
              <a:off x="8792640" y="379800"/>
              <a:ext cx="78120" cy="6248520"/>
            </a:xfrm>
            <a:prstGeom prst="rect">
              <a:avLst/>
            </a:prstGeom>
            <a:gradFill rotWithShape="0">
              <a:gsLst>
                <a:gs pos="0">
                  <a:srgbClr val="9933ff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3" name=""/>
          <p:cNvGrpSpPr/>
          <p:nvPr/>
        </p:nvGrpSpPr>
        <p:grpSpPr>
          <a:xfrm>
            <a:off x="412920" y="6476400"/>
            <a:ext cx="8686800" cy="229320"/>
            <a:chOff x="412920" y="6476400"/>
            <a:chExt cx="8686800" cy="229320"/>
          </a:xfrm>
        </p:grpSpPr>
        <p:sp>
          <p:nvSpPr>
            <p:cNvPr id="64" name=""/>
            <p:cNvSpPr/>
            <p:nvPr/>
          </p:nvSpPr>
          <p:spPr>
            <a:xfrm flipV="1" rot="5400000">
              <a:off x="4718160" y="2170440"/>
              <a:ext cx="75960" cy="8686800"/>
            </a:xfrm>
            <a:prstGeom prst="rect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V="1" rot="5400000">
              <a:off x="4625280" y="2417040"/>
              <a:ext cx="76320" cy="8501040"/>
            </a:xfrm>
            <a:prstGeom prst="rect">
              <a:avLst/>
            </a:prstGeom>
            <a:gradFill rotWithShape="0">
              <a:gsLst>
                <a:gs pos="0">
                  <a:srgbClr val="00ffff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grpSp>
        <p:nvGrpSpPr>
          <p:cNvPr id="66" name=""/>
          <p:cNvGrpSpPr/>
          <p:nvPr/>
        </p:nvGrpSpPr>
        <p:grpSpPr>
          <a:xfrm>
            <a:off x="76320" y="176040"/>
            <a:ext cx="8745480" cy="161280"/>
            <a:chOff x="76320" y="176040"/>
            <a:chExt cx="8745480" cy="161280"/>
          </a:xfrm>
        </p:grpSpPr>
        <p:sp>
          <p:nvSpPr>
            <p:cNvPr id="67" name=""/>
            <p:cNvSpPr/>
            <p:nvPr/>
          </p:nvSpPr>
          <p:spPr>
            <a:xfrm flipV="1" rot="5400000">
              <a:off x="4529160" y="-3955680"/>
              <a:ext cx="58680" cy="8526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V="1" rot="5400000">
              <a:off x="4418640" y="-4166280"/>
              <a:ext cx="60480" cy="874548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99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38088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124080" y="6014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80808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858000" y="6014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80808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088BC-F2F1-4514-A771-5513F168BE5E}" type="slidenum">
              <a:rPr b="0" lang="fr-FR" sz="1400" spc="-1" strike="noStrike">
                <a:solidFill>
                  <a:srgbClr val="80808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8f8f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8f8f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99cc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699ff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8f8f8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8f8f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1371600" y="26665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685800" y="121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0"/>
            <a:ext cx="10972800" cy="6858000"/>
          </a:xfrm>
          <a:prstGeom prst="rect">
            <a:avLst/>
          </a:prstGeom>
          <a:gradFill rotWithShape="0">
            <a:gsLst>
              <a:gs pos="0">
                <a:srgbClr val="006666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24480" y="228600"/>
          <a:ext cx="1314720" cy="88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24480" y="228600"/>
                    <a:ext cx="1314720" cy="88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609480"/>
            <a:ext cx="8686800" cy="224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ahoma"/>
              </a:rPr>
              <a:t>République du Sénégal</a:t>
            </a:r>
            <a:br>
              <a:rPr sz="2800"/>
            </a:br>
            <a:r>
              <a:rPr b="1" lang="fr-FR" sz="2800" spc="-1" strike="noStrike" u="sng">
                <a:solidFill>
                  <a:srgbClr val="000000"/>
                </a:solidFill>
                <a:uFillTx/>
                <a:latin typeface="Monotype Corsiva"/>
              </a:rPr>
              <a:t>Peuple – Un But – Une Foi</a:t>
            </a:r>
            <a:br>
              <a:rPr sz="2800"/>
            </a:b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Ministère de l’Agriculture, des Bio </a:t>
            </a:r>
            <a:br>
              <a:rPr sz="3200"/>
            </a:br>
            <a:r>
              <a:rPr b="0" lang="fr-FR" sz="3200" spc="-1" strike="noStrike">
                <a:solidFill>
                  <a:srgbClr val="000099"/>
                </a:solidFill>
                <a:latin typeface="Tahoma"/>
              </a:rPr>
              <a:t>Carburants et de la Sécurité Alimentair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4920" y="3048120"/>
            <a:ext cx="8839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0" lang="fr-FR" sz="3200" spc="-1" strike="noStrike">
                <a:solidFill>
                  <a:srgbClr val="0033cc"/>
                </a:solidFill>
                <a:latin typeface="Tahoma"/>
              </a:rPr>
              <a:t>Bureau de la Formation Professionnelle Agrico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4952880"/>
            <a:ext cx="8688240" cy="11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 </a:t>
            </a:r>
            <a:r>
              <a:rPr b="0" lang="fr-FR" sz="3200" spc="-1" strike="noStrike">
                <a:solidFill>
                  <a:srgbClr val="6600ff"/>
                </a:solidFill>
                <a:latin typeface="Tahoma"/>
              </a:rPr>
              <a:t>Cadrage général – problématiques de la formation agricole et rurale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8800" y="3962520"/>
            <a:ext cx="77738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Présentation  Elèves Professeurs TA</a:t>
            </a:r>
            <a:br>
              <a:rPr sz="3200"/>
            </a:br>
            <a:r>
              <a:rPr b="0" lang="fr-FR" sz="3200" spc="-1" strike="noStrike">
                <a:solidFill>
                  <a:srgbClr val="ff9a35"/>
                </a:solidFill>
                <a:latin typeface="Tahoma"/>
              </a:rPr>
              <a:t>ENSEPT 02 Février 2007</a:t>
            </a:r>
            <a:br>
              <a:rPr sz="3200"/>
            </a:b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9a35"/>
                </a:solidFill>
                <a:latin typeface="Tahoma"/>
              </a:rPr>
              <a:t>Vision institutionnell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8f8f8"/>
                </a:solidFill>
                <a:latin typeface="Tahoma"/>
              </a:rPr>
              <a:t>   </a:t>
            </a:r>
            <a:r>
              <a:rPr b="0" lang="fr-FR" sz="2800" spc="-1" strike="noStrike">
                <a:solidFill>
                  <a:srgbClr val="00ffff"/>
                </a:solidFill>
                <a:latin typeface="Tahoma"/>
              </a:rPr>
              <a:t>Permettre aux producteurs, individuellement ou organisés, de s’épanouir dans un cadre institutionnel de politique amélioré, pour leur permettre de bénéficier :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2971800"/>
            <a:ext cx="830592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meilleur accès au marché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’un cadre réglementaire et législatif favorisant transparence, compétitivité et sécurisation des investissement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 services en formation, recherche et conseil agricole et rural capables de répondre à la demande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es cadres de concertation / négociation pour asseoir un partenariat avec l’ensemble des acteurs,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lus grande transparence de ces structures de représentation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ffff"/>
                </a:solidFill>
                <a:latin typeface="Tahoma"/>
              </a:rPr>
              <a:t>Problématiqu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8377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ermettre à l’agriculture et à l’élevag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’assumer correctement leurs missions : 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Quels services pour appuyer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        </a:t>
            </a:r>
            <a:r>
              <a:rPr b="0" lang="fr-FR" sz="1600" spc="-1" strike="noStrike">
                <a:solidFill>
                  <a:srgbClr val="ffff00"/>
                </a:solidFill>
                <a:latin typeface="Tahoma"/>
                <a:ea typeface="Times New Roman"/>
              </a:rPr>
              <a:t>les stratégies de dév. ASP</a:t>
            </a:r>
            <a:r>
              <a:rPr b="0" lang="fr-FR" sz="1600" spc="-1" strike="noStrike">
                <a:solidFill>
                  <a:srgbClr val="3728f6"/>
                </a:solidFill>
                <a:latin typeface="Tahoma"/>
                <a:ea typeface="Times New Roman"/>
              </a:rPr>
              <a:t> 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	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a situation du secteur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de sérieuses difficultés de croissanc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Les enjeux  :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éparer le « capital humain » à la conduite de processus de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odernisation et d’adaptation des exploitations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implique des choix équilibrés / différentes catégories d’acteur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Réduire les écarts entre les savoirs actuels et les capacités requises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ccès à l’information pour le plus grand nombre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dapter les dispositifs de formation / besoins (+ couverture nationale du Consei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Articuler Recherche/ Formation /Conseil ASP (recentrage / préoccup. des ruraux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7" name=""/>
          <p:cNvSpPr/>
          <p:nvPr/>
        </p:nvSpPr>
        <p:spPr>
          <a:xfrm>
            <a:off x="5334120" y="914400"/>
            <a:ext cx="34290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Sécurité, souveraineté alimentai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améliorer les revenus des ruraux 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romouvoir la création d’emploi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gestion des  ressources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Faire entrer des devis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105520" y="838080"/>
            <a:ext cx="228600" cy="1447920"/>
          </a:xfrm>
          <a:custGeom>
            <a:avLst/>
            <a:gdLst>
              <a:gd name="textAreaLeft" fmla="*/ 146160 w 228600"/>
              <a:gd name="textAreaRight" fmla="*/ 22896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1523880"/>
            <a:ext cx="380880" cy="381240"/>
          </a:xfrm>
          <a:prstGeom prst="su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2895480"/>
            <a:ext cx="434340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&gt; 50 % de la population, elle croît encore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nversion du ratio urbain/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Importations (céréales) décuplées en 40 an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analphabétisme important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029200" y="2895480"/>
            <a:ext cx="3962520" cy="1425240"/>
          </a:xfrm>
          <a:prstGeom prst="rect">
            <a:avLst/>
          </a:prstGeom>
          <a:noFill/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- part du PIB en régression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pauvreté plus marquée en milieu rural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gestion non durable des ress. naturel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f8f8f8"/>
              </a:buClr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  <a:ea typeface="Times New Roman"/>
              </a:rPr>
              <a:t>64 % des emplois = rural « informel »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419720" y="1143000"/>
            <a:ext cx="685800" cy="228600"/>
          </a:xfrm>
          <a:custGeom>
            <a:avLst/>
            <a:gdLst>
              <a:gd name="textAreaLeft" fmla="*/ 106920 w 685800"/>
              <a:gd name="textAreaRight" fmla="*/ 600120 w 685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Etat des lieu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Vision clair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des constats, enjeux et défis à relever par le monde rural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iagnostics offre / demande de FAR, projections démographiques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Stratégie Nationa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SNFAR) </a:t>
            </a:r>
            <a:r>
              <a:rPr b="1" lang="fr-FR" sz="1600" spc="-1" strike="noStrike">
                <a:solidFill>
                  <a:srgbClr val="f8f8f8"/>
                </a:solidFill>
                <a:latin typeface="Tahoma"/>
              </a:rPr>
              <a:t>réactualisée début 2005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ilotage institutionnel (national et local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rmation des producteurs(trices) et des autres acteurs ruraux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Problématique : Formation de masse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Conseil et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Réformes institutionn</a:t>
            </a:r>
            <a:r>
              <a:rPr b="1" lang="fr-FR" sz="1800" spc="-1" strike="noStrike" baseline="30000">
                <a:solidFill>
                  <a:srgbClr val="f8f8f8"/>
                </a:solidFill>
                <a:latin typeface="Tahoma"/>
              </a:rPr>
              <a:t>les</a:t>
            </a: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 : PSAOP 1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ANCAR, FNRAA, renforcement ITA &amp; ISRA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déconcentration Ministères (mais faiblesses subsistent…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fournitures, par les fédérations d’OP, de services à leurs membres,…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8f8f8"/>
                </a:solidFill>
                <a:latin typeface="Tahoma"/>
              </a:rPr>
              <a:t>2ème Phase PSAOP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:    SNCASP  -  SNRAA -  SNFASP -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Financement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Mise en place de systèmes de financement pérennes (FNDASP, etc.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Tahoma"/>
              </a:rPr>
              <a:t>Positions des acteu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formation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Points de vue exprimés en 2 occasions en 2005 (ateliers Indépendance, et Mbodiène)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SNFAR toujours d’actualité, mais nécessité de mécanismes de suivi de sa mise en œuvre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349"/>
              </a:spcBef>
              <a:buClr>
                <a:srgbClr val="6699ff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Ont Validé le diagnostic réalisé en 2004, et se sont accordés sur les priorités à retenir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ilotage institutionnel et régulation de la FAR,  # dév. de relations / Recherche et Consei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</a:t>
            </a:r>
            <a:r>
              <a:rPr b="0" lang="fr-FR" sz="1400" spc="-1" strike="noStrike">
                <a:solidFill>
                  <a:srgbClr val="00ffff"/>
                </a:solidFill>
                <a:latin typeface="Tahoma"/>
              </a:rPr>
              <a:t>appui à la construction / demande FAR, et socialisation de la mise en œuvre des formations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 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# propositions /spécificités des niveaux d’intervention et leur pilotage (form. des producteur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4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e conseil </a:t>
            </a:r>
            <a:r>
              <a:rPr b="0" lang="fr-FR" sz="1600" spc="-1" strike="noStrike" u="sng">
                <a:solidFill>
                  <a:srgbClr val="f8f8f8"/>
                </a:solidFill>
                <a:uFillTx/>
                <a:latin typeface="Tahoma"/>
              </a:rPr>
              <a:t>Reconnu d’intérêt public, il est pluriel (…) et différenci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Mise en place du </a:t>
            </a:r>
            <a:r>
              <a:rPr b="1" lang="fr-FR" sz="1400" spc="-1" strike="noStrike">
                <a:solidFill>
                  <a:srgbClr val="f8f8f8"/>
                </a:solidFill>
                <a:latin typeface="Tahoma"/>
              </a:rPr>
              <a:t>SITAR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et d’un réseau de prestataires de conseil agricole et rural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Recentrage de l’ANCAR sur la régulation du SNCASP, qui fournira 2 types de services :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de base, pris en charge par le FNDASP (activités communautaires et sociales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* un conseil technique et spécialisé (/ activités de rentabilité économique)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acquis : engag</a:t>
            </a:r>
            <a:r>
              <a:rPr b="0" lang="fr-FR" sz="14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réciproque contractualisé, mécanismes de réponse /demande, accompagnement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ca302"/>
                </a:solidFill>
                <a:latin typeface="Tahoma"/>
              </a:rPr>
              <a:t>Sur la recherche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Les acteurs (notamment ITA, ISRA, FNRAA) ambitionnent de construire le SNRAA en formalisant leurs relations.</a:t>
            </a: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228600" y="762120"/>
            <a:ext cx="28195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institutionnel</a:t>
            </a:r>
            <a:r>
              <a:rPr b="0" lang="fr-FR" sz="21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1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914400" y="609480"/>
            <a:ext cx="7315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           </a:t>
            </a:r>
            <a:r>
              <a:rPr b="1" i="1" lang="fr-FR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ES PERSPECTIVES</a:t>
            </a:r>
            <a:r>
              <a:rPr b="1" i="1" lang="fr-FR" sz="36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2819520"/>
            <a:ext cx="87631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enforcement des capacités des producteurs et des OP</a:t>
            </a:r>
            <a:endParaRPr b="0" lang="en-US" sz="29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5257800"/>
            <a:ext cx="998208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008080"/>
                </a:solidFill>
                <a:latin typeface="Wingdings"/>
                <a:ea typeface="Wingdings"/>
              </a:rPr>
              <a:t></a:t>
            </a:r>
            <a:r>
              <a:rPr b="1" i="1" lang="fr-FR" sz="29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 </a:t>
            </a:r>
            <a:r>
              <a:rPr b="1" i="1" lang="fr-FR" sz="2400" spc="-1" strike="noStrike">
                <a:solidFill>
                  <a:srgbClr val="008080"/>
                </a:solidFill>
                <a:latin typeface="Times New Roman"/>
                <a:ea typeface="Times New Roman"/>
              </a:rPr>
              <a:t>Réponse territorialisée à la demande, et qualité de la répons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28600" y="1600200"/>
            <a:ext cx="2133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ux plans :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514600" y="1371600"/>
            <a:ext cx="7848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ise en place et appui aux cadres stratégiques de réflexion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Mécanismes de coordination des politiques et stratégi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élaborées par tous les acteurs (niveau national &amp; régional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 Orientation plus rationnelle des multiples financement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880" y="3657600"/>
            <a:ext cx="9829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 u="sng">
                <a:solidFill>
                  <a:srgbClr val="00ffff"/>
                </a:solidFill>
                <a:uFillTx/>
                <a:latin typeface="Times New Roman"/>
                <a:ea typeface="Times New Roman"/>
              </a:rPr>
              <a:t>ENJEU</a:t>
            </a: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: la validité de l’analyse de la « demande de formation »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5867280"/>
            <a:ext cx="9829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Régionalisation – Appui contractuel aux opérateurs – Formations de masse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419112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ur sortir des sentiers battu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" y="4648320"/>
            <a:ext cx="12764880" cy="66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----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</a:t>
            </a:r>
            <a:r>
              <a:rPr b="0" lang="fr-FR" sz="2400" spc="-1" strike="noStrike">
                <a:solidFill>
                  <a:srgbClr val="ff9a35"/>
                </a:solidFill>
                <a:latin typeface="Times New Roman"/>
                <a:ea typeface="Times New Roman"/>
              </a:rPr>
              <a:t>Appui à la construction sociale de la demande de formation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      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(OP et opérateurs de formation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1447920"/>
            <a:ext cx="228600" cy="914400"/>
          </a:xfrm>
          <a:custGeom>
            <a:avLst/>
            <a:gdLst>
              <a:gd name="textAreaLeft" fmla="*/ 146160 w 228600"/>
              <a:gd name="textAreaRight" fmla="*/ 228960 w 22860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507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819160" y="228600"/>
            <a:ext cx="5715000" cy="54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00"/>
                </a:solidFill>
                <a:latin typeface="Tahoma"/>
              </a:rPr>
              <a:t>Programme triennal du BFPA</a:t>
            </a: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50560" y="764640"/>
            <a:ext cx="889308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Pilotage et régulation de la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pilotage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gulation de la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Redynamisation et restructuration du dispositif FAR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énovation des dispositifs de form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Mise en œuvres de démarches structurante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Qu’est-ce qu’une « demande de formation » ?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onstruction de problématiques de Dév. Rural et FAR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renforcement de capacités des formateurs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	</a:t>
            </a: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Améliorer la qualité de l’offre 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900" spc="-1" strike="noStrike">
                <a:solidFill>
                  <a:srgbClr val="ff6633"/>
                </a:solidFill>
                <a:latin typeface="Times New Roman"/>
                <a:ea typeface="Times New Roman"/>
              </a:rPr>
              <a:t>Maîtrise de l’info et capitalisation</a:t>
            </a:r>
            <a:endParaRPr b="0" lang="en-US" sz="29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capitalisat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00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800" spc="-1" strike="noStrike">
                <a:solidFill>
                  <a:srgbClr val="f8f8f8"/>
                </a:solidFill>
                <a:latin typeface="Tahoma"/>
              </a:rPr>
              <a:t>Information diffusion</a:t>
            </a:r>
            <a:endParaRPr b="0" lang="en-US" sz="18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200" name=""/>
          <p:cNvSpPr/>
          <p:nvPr/>
        </p:nvSpPr>
        <p:spPr>
          <a:xfrm>
            <a:off x="380880" y="4267080"/>
            <a:ext cx="1676520" cy="762120"/>
          </a:xfrm>
          <a:custGeom>
            <a:avLst/>
            <a:gdLst>
              <a:gd name="textAreaLeft" fmla="*/ 261720 w 1676520"/>
              <a:gd name="textAreaRight" fmla="*/ 1467000 w 167652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3733920"/>
            <a:ext cx="381240" cy="685800"/>
          </a:xfrm>
          <a:prstGeom prst="can">
            <a:avLst>
              <a:gd name="adj" fmla="val 25000"/>
            </a:avLst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3505320" y="3000240"/>
            <a:ext cx="1699920" cy="134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 Black"/>
              </a:rPr>
              <a:t>Fin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33160" y="533520"/>
            <a:ext cx="83055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Tahoma"/>
              </a:rPr>
              <a:t>Évolution des politiques et programm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4582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Ajustement Structurel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79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Nouvelle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84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NV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0 –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ca302"/>
                </a:solidFill>
                <a:latin typeface="Tahoma"/>
              </a:rPr>
              <a:t>Réforme de la politique agricole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===</a:t>
            </a:r>
            <a:r>
              <a:rPr b="0" lang="fr-FR" sz="16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PASA </a:t>
            </a:r>
            <a:r>
              <a:rPr b="0" lang="fr-FR" sz="2400" spc="-1" strike="noStrike">
                <a:solidFill>
                  <a:srgbClr val="f8f8f8"/>
                </a:solidFill>
                <a:latin typeface="Wingdings"/>
                <a:ea typeface="Wingdings"/>
              </a:rPr>
              <a:t>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PIS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1995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A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(déf. des objectifs globaux - 1995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DOS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mise en place d’infrastructures rurales et de services agricoles - 1998)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R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centralisé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, et 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LPDI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secteur agricole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       </a:t>
            </a:r>
            <a:r>
              <a:rPr b="0" lang="fr-FR" sz="2000" spc="-1" strike="noStrike" u="sng">
                <a:solidFill>
                  <a:srgbClr val="f8f8f8"/>
                </a:solidFill>
                <a:uFillTx/>
                <a:latin typeface="Tahoma"/>
              </a:rPr>
              <a:t>PSAOP, PNIR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…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SNFAR</a:t>
            </a:r>
            <a:r>
              <a:rPr b="0" lang="fr-FR" sz="1600" spc="-1" strike="noStrike">
                <a:solidFill>
                  <a:srgbClr val="f8f8f8"/>
                </a:solidFill>
                <a:latin typeface="Tahoma"/>
              </a:rPr>
              <a:t> (1999) </a:t>
            </a:r>
            <a:endParaRPr b="0" lang="en-US" sz="16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27" name=""/>
          <p:cNvSpPr/>
          <p:nvPr/>
        </p:nvSpPr>
        <p:spPr>
          <a:xfrm>
            <a:off x="457200" y="4800600"/>
            <a:ext cx="8381880" cy="15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0cc51"/>
                </a:solidFill>
                <a:latin typeface="Tahoma"/>
              </a:rPr>
              <a:t>LOASP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4 : information agricole, éducation et formation aux métiers agricoles et ruraux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5 : Renforcement des capacités des paysans et des OP, des organisations de la société civile, des collectivités locales et des services de l'Etat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.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f8f8f8"/>
                </a:solidFill>
                <a:latin typeface="Tahoma"/>
                <a:ea typeface="Times New Roman"/>
              </a:rPr>
              <a:t>Chap. 16 : Recherche et Conseil agro-sylvo-pastoral</a:t>
            </a:r>
            <a:r>
              <a:rPr b="0" lang="fr-FR" sz="1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3962520"/>
            <a:ext cx="380880" cy="228600"/>
          </a:xfrm>
          <a:custGeom>
            <a:avLst/>
            <a:gdLst>
              <a:gd name="textAreaLeft" fmla="*/ 59400 w 380880"/>
              <a:gd name="textAreaRight" fmla="*/ 333360 w 38088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743200" y="4572000"/>
            <a:ext cx="685800" cy="685800"/>
          </a:xfrm>
          <a:custGeom>
            <a:avLst/>
            <a:gdLst>
              <a:gd name="textAreaLeft" fmla="*/ 91800 w 685800"/>
              <a:gd name="textAreaRight" fmla="*/ 594000 w 68580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638680" y="4495680"/>
            <a:ext cx="457200" cy="838440"/>
          </a:xfrm>
          <a:custGeom>
            <a:avLst/>
            <a:gdLst>
              <a:gd name="textAreaLeft" fmla="*/ 61200 w 457200"/>
              <a:gd name="textAreaRight" fmla="*/ 396000 w 457200"/>
              <a:gd name="textAreaTop" fmla="*/ 146520 h 838440"/>
              <a:gd name="textAreaBottom" fmla="*/ 608040 h 838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09480" y="2438280"/>
            <a:ext cx="7925040" cy="0"/>
          </a:xfrm>
          <a:prstGeom prst="line">
            <a:avLst/>
          </a:prstGeom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rot="7620000">
            <a:off x="8179200" y="3035880"/>
            <a:ext cx="838440" cy="906480"/>
          </a:xfrm>
          <a:custGeom>
            <a:avLst/>
            <a:gdLst>
              <a:gd name="textAreaLeft" fmla="*/ 0 w 838440"/>
              <a:gd name="textAreaRight" fmla="*/ 838800 w 838440"/>
              <a:gd name="textAreaTop" fmla="*/ 0 h 906480"/>
              <a:gd name="textAreaBottom" fmla="*/ 906840 h 906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09480" y="4724280"/>
            <a:ext cx="1600200" cy="53352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705720" y="4648320"/>
            <a:ext cx="1600200" cy="533160"/>
          </a:xfrm>
          <a:prstGeom prst="flowChartMultidocument">
            <a:avLst/>
          </a:prstGeom>
          <a:solidFill>
            <a:srgbClr val="6699ff"/>
          </a:solidFill>
          <a:ln w="936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"/>
          <p:cNvGraphicFramePr/>
          <p:nvPr/>
        </p:nvGraphicFramePr>
        <p:xfrm>
          <a:off x="20520" y="1452600"/>
          <a:ext cx="8798040" cy="42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20" y="1452600"/>
                    <a:ext cx="8798040" cy="42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28600" y="1828800"/>
            <a:ext cx="5943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Loi d’Orientation, c’est …</a:t>
            </a:r>
            <a:endParaRPr b="0" lang="en-US" sz="32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4952880"/>
            <a:ext cx="7391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… 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Nécessaire pour bâtir une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politique de formation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des ressources humaines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u secteur agricol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04920" y="2438280"/>
            <a:ext cx="56386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un cadre, pour définir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une politique agricole volontariste,</a:t>
            </a:r>
            <a:r>
              <a:rPr b="0" lang="fr-FR" sz="2800" spc="-1" strike="noStrike">
                <a:solidFill>
                  <a:srgbClr val="00ffff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matérialisée par les choix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et les priorités du Sénégal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334120" y="1905120"/>
            <a:ext cx="3809880" cy="11430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 équilibre urbain / rural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67280" y="380880"/>
            <a:ext cx="3276720" cy="99072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agriculture ?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505320"/>
            <a:ext cx="5562720" cy="1371600"/>
          </a:xfrm>
          <a:prstGeom prst="ellipse">
            <a:avLst/>
          </a:prstGeom>
          <a:solidFill>
            <a:srgbClr val="6699ff"/>
          </a:solidFill>
          <a:ln cap="sq" w="12600">
            <a:solidFill>
              <a:srgbClr val="f8f8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quelle société sénégalaise pour demain ?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5335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8f8f8"/>
                </a:solidFill>
                <a:latin typeface="Tahoma"/>
              </a:rPr>
              <a:t>LES PERSPECTIVES</a:t>
            </a:r>
            <a:endParaRPr b="0" lang="en-US" sz="3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8200" y="1066680"/>
            <a:ext cx="559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Dans un nouveau cadre : la LOASP</a:t>
            </a: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1752480"/>
            <a:ext cx="2286000" cy="0"/>
          </a:xfrm>
          <a:prstGeom prst="line">
            <a:avLst/>
          </a:prstGeom>
          <a:ln w="88920">
            <a:solidFill>
              <a:srgbClr val="0000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0010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Une vision à long terme (20 ans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Le renforcement des capacités couvre les domaines de :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Formation, 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la Recherche,</a:t>
            </a:r>
            <a:br>
              <a:rPr sz="2800"/>
            </a:br>
            <a:r>
              <a:rPr b="0" i="1" lang="fr-FR" sz="2800" spc="-1" strike="noStrike">
                <a:solidFill>
                  <a:srgbClr val="fca302"/>
                </a:solidFill>
                <a:latin typeface="Arial"/>
                <a:ea typeface="Arial"/>
              </a:rPr>
              <a:t>* du Conseil,</a:t>
            </a: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 Agro Sylvo Pastoral.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Il est traité dans le Titre IV de la Loi </a:t>
            </a:r>
            <a:br>
              <a:rPr sz="2800"/>
            </a:br>
            <a:r>
              <a:rPr b="0" i="1" lang="fr-FR" sz="2800" spc="-1" strike="noStrike">
                <a:solidFill>
                  <a:srgbClr val="f8f8f8"/>
                </a:solidFill>
                <a:latin typeface="Arial"/>
                <a:ea typeface="Arial"/>
              </a:rPr>
              <a:t>( Mesures d’accompagnement)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Cinq articles pour la formation de l’ensemble des acteurs ruraux</a:t>
            </a:r>
            <a:r>
              <a:rPr b="0" lang="fr-FR" sz="22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br>
              <a:rPr sz="2800"/>
            </a:br>
            <a:br>
              <a:rPr sz="2800"/>
            </a:b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1752480"/>
            <a:ext cx="85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55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Installation des jeunes ayant reçu une formation professionnelle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733920"/>
            <a:ext cx="80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3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ispenser une formation générale, technique et professionnelle  dans les métiers de l’agriculture, et à tous les ruraux ( soutien de l’Etat 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80880" y="2438280"/>
            <a:ext cx="8445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2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: 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 mise en œuvre d’une Stratégie Nationale de FAR  (SNFAR) ; Création de structures de formation aux métiers de l’agriculture Il évoque également l’assurance d’une alphabétisation de tous les ruraux </a:t>
            </a:r>
            <a:r>
              <a:rPr b="0" lang="fr-FR" sz="18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4160" y="5451480"/>
            <a:ext cx="857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80880" y="4800600"/>
            <a:ext cx="8445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4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 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Création d’établiss</a:t>
            </a:r>
            <a:r>
              <a:rPr b="1" lang="fr-FR" sz="2000" spc="-1" strike="noStrike" baseline="30000">
                <a:solidFill>
                  <a:srgbClr val="ffff99"/>
                </a:solidFill>
                <a:latin typeface="Times New Roman"/>
                <a:ea typeface="Times New Roman"/>
              </a:rPr>
              <a:t>nts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 de formation Sup. des sciences &amp; techniques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0880" y="5410080"/>
            <a:ext cx="85726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 </a:t>
            </a:r>
            <a:r>
              <a:rPr b="1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Art.67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f8f8f8"/>
                </a:solidFill>
                <a:latin typeface="Times New Roman"/>
                <a:ea typeface="Times New Roman"/>
              </a:rPr>
              <a:t> : </a:t>
            </a:r>
            <a:r>
              <a:rPr b="1" lang="fr-FR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Définition et mise en œuvre d’un programme de renforcement des capacités des agents de l’Etat, des OP et des représentants des Collectivités Locales ;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ransition spd="med">
    <p:cover dir="r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828440" y="228600"/>
            <a:ext cx="701028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ffff"/>
                </a:solidFill>
                <a:latin typeface="Tahoma"/>
              </a:rPr>
              <a:t>Traitement des aspects FAR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L’insertion des jeunes.</a:t>
            </a:r>
            <a:endParaRPr b="0" lang="en-US" sz="28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</a:t>
            </a:r>
            <a:r>
              <a:rPr b="0" lang="fr-FR" sz="2000" spc="-1" strike="noStrike">
                <a:solidFill>
                  <a:srgbClr val="9ad7f6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une priorité pour l’Etat et les Coll. Locales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- FAMEA contribuera à l’installation des jeunes agriculteurs ayant reçu une formation professionnelle agricole</a:t>
            </a:r>
            <a:r>
              <a:rPr b="0" lang="fr-FR" sz="24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Tahoma"/>
              </a:rPr>
              <a:t>Stratégie nationale de formation agricole et rurale</a:t>
            </a:r>
            <a:br>
              <a:rPr sz="2800"/>
            </a:br>
            <a:r>
              <a:rPr b="0" lang="fr-FR" sz="2000" spc="-1" strike="noStrike">
                <a:solidFill>
                  <a:srgbClr val="f8f8f8"/>
                </a:solidFill>
                <a:latin typeface="Tahoma"/>
              </a:rPr>
              <a:t>définie et mise en œuvre par l’Etat en partenariat avec l’ensemble des acteurs du secteur </a:t>
            </a:r>
            <a:endParaRPr b="0" lang="en-US" sz="20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3697200"/>
            <a:ext cx="8763120" cy="30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connaissance du droit à la formation initiale et continue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Créer des structures de formation /métiers de l’agriculture, Supérieur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Renforcement des capacités 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– </a:t>
            </a:r>
            <a:r>
              <a:rPr b="0" lang="fr-FR" sz="2000" spc="-1" strike="noStrike">
                <a:solidFill>
                  <a:srgbClr val="9ad7f6"/>
                </a:solidFill>
                <a:latin typeface="Arial"/>
              </a:rPr>
              <a:t>rôle essentiel des acteurs non étatique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4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4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délégation possible de missions de service public (OPA, Soc. Civile)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800" spc="-1" strike="noStrike">
                <a:solidFill>
                  <a:srgbClr val="f8f8f8"/>
                </a:solidFill>
                <a:latin typeface="Arial"/>
              </a:rPr>
              <a:t>-</a:t>
            </a:r>
            <a:r>
              <a:rPr b="0" lang="fr-FR" sz="2800" spc="-1" strike="noStrike">
                <a:solidFill>
                  <a:srgbClr val="9ad7f6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participent à l’élaboration, la mise en œuvre &amp; l’évaluation des politiques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 </a:t>
            </a:r>
            <a:r>
              <a:rPr b="0" lang="fr-FR" sz="2000" spc="-1" strike="noStrike">
                <a:solidFill>
                  <a:srgbClr val="f8f8f8"/>
                </a:solidFill>
                <a:latin typeface="Arial"/>
              </a:rPr>
              <a:t>-  programmes de renforcement de capacités de ces  acteurs.</a:t>
            </a: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837720"/>
            <a:ext cx="7620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buClr>
                <a:srgbClr val="ff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6633"/>
                </a:solidFill>
                <a:latin typeface="Tahoma"/>
              </a:rPr>
              <a:t>Contraintes de l’agricultur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380880" y="1447560"/>
            <a:ext cx="4876560" cy="4114080"/>
            <a:chOff x="380880" y="1447560"/>
            <a:chExt cx="4876560" cy="4114080"/>
          </a:xfrm>
        </p:grpSpPr>
        <p:sp>
          <p:nvSpPr>
            <p:cNvPr id="160" name="PyramidChart 1;Item 5"/>
            <p:cNvSpPr/>
            <p:nvPr/>
          </p:nvSpPr>
          <p:spPr>
            <a:xfrm flipV="1">
              <a:off x="380880" y="4737960"/>
              <a:ext cx="4876560" cy="823320"/>
            </a:xfrm>
            <a:custGeom>
              <a:avLst/>
              <a:gdLst>
                <a:gd name="textAreaLeft" fmla="*/ 666000 w 4876560"/>
                <a:gd name="textAreaRight" fmla="*/ 4210560 w 4876560"/>
                <a:gd name="textAreaTop" fmla="*/ 112320 h 823320"/>
                <a:gd name="textAreaBottom" fmla="*/ 7110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9440" y="21600"/>
                  </a:lnTo>
                  <a:lnTo>
                    <a:pt x="2160" y="21600"/>
                  </a:lnTo>
                  <a:close/>
                </a:path>
              </a:pathLst>
            </a:custGeom>
            <a:solidFill>
              <a:srgbClr val="80808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Struc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1" name="PyramidChart 1;Item 4"/>
            <p:cNvSpPr/>
            <p:nvPr/>
          </p:nvSpPr>
          <p:spPr>
            <a:xfrm flipV="1">
              <a:off x="868680" y="3916080"/>
              <a:ext cx="3900960" cy="821880"/>
            </a:xfrm>
            <a:custGeom>
              <a:avLst/>
              <a:gdLst>
                <a:gd name="textAreaLeft" fmla="*/ 586800 w 3900960"/>
                <a:gd name="textAreaRight" fmla="*/ 3314160 w 3900960"/>
                <a:gd name="textAreaTop" fmla="*/ 123480 h 821880"/>
                <a:gd name="textAreaBottom" fmla="*/ 698400 h 8218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900" y="21600"/>
                  </a:lnTo>
                  <a:lnTo>
                    <a:pt x="27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Naturell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2" name="PyramidChart 1;Item 3"/>
            <p:cNvSpPr/>
            <p:nvPr/>
          </p:nvSpPr>
          <p:spPr>
            <a:xfrm flipV="1">
              <a:off x="1356840" y="3092400"/>
              <a:ext cx="2924280" cy="823320"/>
            </a:xfrm>
            <a:custGeom>
              <a:avLst/>
              <a:gdLst>
                <a:gd name="textAreaLeft" fmla="*/ 507600 w 2924280"/>
                <a:gd name="textAreaRight" fmla="*/ 2416680 w 2924280"/>
                <a:gd name="textAreaTop" fmla="*/ 142920 h 823320"/>
                <a:gd name="textAreaBottom" fmla="*/ 68040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8000" y="21600"/>
                  </a:lnTo>
                  <a:lnTo>
                    <a:pt x="3600" y="21600"/>
                  </a:lnTo>
                  <a:close/>
                </a:path>
              </a:pathLst>
            </a:custGeom>
            <a:solidFill>
              <a:srgbClr val="000000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Economiques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3" name="PyramidChart 1;Item 2"/>
            <p:cNvSpPr/>
            <p:nvPr/>
          </p:nvSpPr>
          <p:spPr>
            <a:xfrm flipV="1">
              <a:off x="1843200" y="2270520"/>
              <a:ext cx="1947960" cy="819720"/>
            </a:xfrm>
            <a:custGeom>
              <a:avLst/>
              <a:gdLst>
                <a:gd name="textAreaLeft" fmla="*/ 428400 w 1947960"/>
                <a:gd name="textAreaRight" fmla="*/ 1519560 w 1947960"/>
                <a:gd name="textAreaTop" fmla="*/ 180000 h 819720"/>
                <a:gd name="textAreaBottom" fmla="*/ 639720 h 819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0" y="21600"/>
                  </a:lnTo>
                  <a:lnTo>
                    <a:pt x="5400" y="21600"/>
                  </a:lnTo>
                  <a:close/>
                </a:path>
              </a:pathLst>
            </a:custGeom>
            <a:solidFill>
              <a:srgbClr val="9933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  <p:sp>
          <p:nvSpPr>
            <p:cNvPr id="164" name="PyramidChart 1;Item 1"/>
            <p:cNvSpPr/>
            <p:nvPr/>
          </p:nvSpPr>
          <p:spPr>
            <a:xfrm flipV="1">
              <a:off x="2331000" y="1447200"/>
              <a:ext cx="975960" cy="823320"/>
            </a:xfrm>
            <a:custGeom>
              <a:avLst/>
              <a:gdLst>
                <a:gd name="textAreaLeft" fmla="*/ 350280 w 975960"/>
                <a:gd name="textAreaRight" fmla="*/ 625680 w 975960"/>
                <a:gd name="textAreaTop" fmla="*/ 295200 h 823320"/>
                <a:gd name="textAreaBottom" fmla="*/ 528120 h 823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0800" y="21600"/>
                  </a:lnTo>
                  <a:lnTo>
                    <a:pt x="10800" y="21600"/>
                  </a:lnTo>
                  <a:close/>
                </a:path>
              </a:pathLst>
            </a:custGeom>
            <a:solidFill>
              <a:srgbClr val="6699ff"/>
            </a:solidFill>
            <a:ln w="12600">
              <a:solidFill>
                <a:srgbClr val="f8f8f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anchorCtr="1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8f8f8"/>
                  </a:solidFill>
                  <a:latin typeface="Arial"/>
                </a:rPr>
                <a:t>Techn.</a:t>
              </a: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f8f8f8"/>
                </a:solidFill>
                <a:latin typeface="Times New Roman"/>
              </a:endParaRPr>
            </a:p>
          </p:txBody>
        </p:sp>
      </p:grpSp>
      <p:sp>
        <p:nvSpPr>
          <p:cNvPr id="165" name=""/>
          <p:cNvSpPr/>
          <p:nvPr/>
        </p:nvSpPr>
        <p:spPr>
          <a:xfrm>
            <a:off x="5029200" y="380880"/>
            <a:ext cx="3886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echnologies inadaptée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ccès à l’inform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Inactivité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analphabétism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Baisse du revenu des paysa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Difficulté d’accès au crédit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luviométrie erratiqu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Saturation des terroir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Taille faible des exploitation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Politiques agricoles insuffisante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(semences, matériels, financ</a:t>
            </a:r>
            <a:r>
              <a:rPr b="0" lang="fr-FR" sz="1800" spc="-1" strike="noStrike" baseline="30000">
                <a:solidFill>
                  <a:srgbClr val="f8f8f8"/>
                </a:solidFill>
                <a:latin typeface="Tahoma"/>
              </a:rPr>
              <a:t>t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285640" y="2590920"/>
            <a:ext cx="95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8f8f8"/>
                </a:solidFill>
                <a:latin typeface="Arial"/>
              </a:rPr>
              <a:t>Sociales</a:t>
            </a:r>
            <a:endParaRPr b="0" lang="en-US" sz="16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80880" y="5867280"/>
            <a:ext cx="876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00"/>
                </a:solidFill>
                <a:latin typeface="Times New Roman"/>
              </a:rPr>
              <a:t>Mais aussi : une offre de services uniforme, du nord au Sud du pays</a:t>
            </a:r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4832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8f8f8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ff9a35"/>
                </a:solidFill>
                <a:latin typeface="Tahoma"/>
              </a:rPr>
              <a:t>Les différentes institutions du milieu rural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institutions publiqu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Collectivités locales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NG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  <a:p>
            <a:pPr marL="329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ahoma"/>
            </a:endParaRPr>
          </a:p>
          <a:p>
            <a:pPr marL="329040" indent="-329040">
              <a:spcBef>
                <a:spcPts val="60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6633"/>
                </a:solidFill>
                <a:latin typeface="Tahoma"/>
              </a:rPr>
              <a:t>Les OP</a:t>
            </a:r>
            <a:endParaRPr b="0" lang="en-US" sz="2400" spc="-1" strike="noStrike">
              <a:solidFill>
                <a:srgbClr val="f8f8f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19720" y="1066680"/>
            <a:ext cx="4343400" cy="49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’administration centrale déconcentrée : Les inspections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	</a:t>
            </a: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cteurs,les CERP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ociétés régionales et projets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es services de vulgarisation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echerche agricole et agro-alimentair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249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Communauté Rurale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La Région</a:t>
            </a:r>
            <a:br>
              <a:rPr sz="1800"/>
            </a:b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8f8f8"/>
                </a:solidFill>
                <a:latin typeface="Tahoma"/>
              </a:rPr>
              <a:t>9 domaines de compétence transférés (mais pas celles relevant du MAH).</a:t>
            </a: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8f8f8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08:45:27Z</dcterms:created>
  <dc:creator>Xavier MALON</dc:creator>
  <dc:description/>
  <dc:language>en-US</dc:language>
  <cp:lastModifiedBy>ogo3</cp:lastModifiedBy>
  <dcterms:modified xsi:type="dcterms:W3CDTF">2007-02-01T09:52:35Z</dcterms:modified>
  <cp:revision>26</cp:revision>
  <dc:subject/>
  <dc:title>Mettre le titre exact</dc:title>
</cp:coreProperties>
</file>