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34B4-93F0-4A8C-84D7-BFF716455B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I am the notes of the first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AF3A-3F39-494D-83B4-0B8A507EA5D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These are the notes of the 2</a:t>
            </a:r>
            <a:r>
              <a:rPr b="0" lang="en-GB" sz="1200" spc="-1" strike="noStrike" baseline="30000">
                <a:solidFill>
                  <a:srgbClr val="000000"/>
                </a:solidFill>
                <a:latin typeface="Calibri"/>
              </a:rPr>
              <a:t>nd</a:t>
            </a: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 sl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THIS LINE IS BOL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88CF9-BF69-4AAD-8D87-D50E32D140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EE435-BA6D-47BB-8BB8-6D9CDD8B9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77CA-AFAC-4140-BDAD-2C5043F75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B9C6-0F9E-4761-AABB-7E87F1EE63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C6C7-A4A9-4F4C-9590-289EC9A7DE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7D0A-68F9-4DE0-AB77-46CECB1A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1A20-63BD-4CD1-A81E-D0AEBB203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CD18-A8D3-4B50-A65E-72AD48EC0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5FB2E-CD65-4194-B7B0-564FE1EA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5FFD-B04F-4312-A57F-333B756FD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BA39-2775-4ABC-ABA0-B4675C07D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3D77-8F20-4393-A2C2-8AB6163E1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3F63-3877-4ABD-A375-47976036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521CC-D593-4C22-801A-BADD524E9A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itle of the 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898989"/>
                </a:solidFill>
                <a:latin typeface="Calibri"/>
              </a:rPr>
              <a:t>Subtitle of the first sl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92d050"/>
                </a:solidFill>
                <a:latin typeface="Calibri"/>
              </a:rPr>
              <a:t>This bit is in italic gre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his is the 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It has bullet points on i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y’re fun, aren’t they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 Black"/>
              </a:rPr>
              <a:t>Especially in a different font like Arial Black at 16 point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1:58:07Z</dcterms:created>
  <dc:creator>Nick Burch</dc:creator>
  <dc:description>This is a sample slideshow, for use with testing etc</dc:description>
  <cp:keywords>Sample Testing</cp:keywords>
  <dc:language>en-US</dc:language>
  <cp:lastModifiedBy>kiwiwings</cp:lastModifiedBy>
  <dcterms:modified xsi:type="dcterms:W3CDTF">2018-05-16T21:07:51Z</dcterms:modified>
  <cp:revision>5</cp:revision>
  <dc:subject>A sample slideshow</dc:subject>
  <dc:title>SlideShow Sample</dc:title>
</cp:coreProperties>
</file>