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13.png" ContentType="image/png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733E-4C94-4386-8038-48B0C8E2C9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D1B4B-FF51-45B4-9F9B-6A71E174C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1EC04-1850-402E-A8F1-E3E79490F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DC73-C6FB-4E16-8922-54831D2B0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23900-5FC0-4A0A-AC30-5B8FF07B1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366A-F0CD-498A-BDB5-6A5D04A53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0ECD-E310-446C-8521-6C8E26CEE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6499-CBBF-4350-955F-B63186278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EADF-1B09-4FE7-89C8-BE4853ED5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A030-546B-4268-8220-10BDEE4B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99D1-E6DE-42E7-8EC1-703105A02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590ED-E774-4F58-BD17-3305E4C9F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8F9DC-DF51-4F4A-BD50-01DBDB835CB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be4ae"/>
            </a:gs>
            <a:gs pos="100000">
              <a:srgbClr val="fae3b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99"/>
                </a:solidFill>
                <a:latin typeface="Wingdings"/>
                <a:ea typeface="Wingdings"/>
              </a:rPr>
              <a:t></a:t>
            </a:r>
            <a:br>
              <a:rPr sz="30000"/>
            </a:br>
            <a:br>
              <a:rPr sz="300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vance ao clicar com o mous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304920"/>
            <a:ext cx="4114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 pessoas mais felizes não têm as melhores coisa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as sabem fazer o melhor das oportunidades que aparecem em seus caminh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105520" y="1093680"/>
            <a:ext cx="3733560" cy="58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felicida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arece par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queles  que chor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machucam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aqueles que buscam e tentam sempr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para aqueles que reconhecem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ortância das pessoas que passam por suas vi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5257800" y="838080"/>
            <a:ext cx="35053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O futuro mais brilhante sempre estar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baseado num passado esquecido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6633"/>
                </a:solidFill>
                <a:latin typeface="Times New Roman"/>
              </a:rPr>
              <a:t>você só terá sucesso na vida quando esquecer os erros e as decepções do passad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2514600"/>
            <a:ext cx="64008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Quando você nasceu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você estava chorando e todas as pessoas ao seu redor estavam sorrin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Times New Roman"/>
              </a:rPr>
              <a:t>Viva de um modo que, ao morrer, você seja aquele que esteja sorrindo enquanto todos a sua volta  estejam chorand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1981080" y="2209680"/>
            <a:ext cx="4705560" cy="34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Viva na presença de </a:t>
            </a:r>
            <a:r>
              <a:rPr b="1" i="1" lang="pt-BR" sz="3200" spc="-1" strike="noStrike">
                <a:solidFill>
                  <a:srgbClr val="ff3300"/>
                </a:solidFill>
                <a:latin typeface="Times New Roman"/>
              </a:rPr>
              <a:t>De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enquanto viver na terra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Aproveite seu tempo agora para conhece-Lo e aprender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é  e, quem </a:t>
            </a:r>
            <a:r>
              <a:rPr b="1" i="1" lang="pt-BR" sz="2700" spc="-1" strike="noStrike">
                <a:solidFill>
                  <a:srgbClr val="ff3300"/>
                </a:solidFill>
                <a:latin typeface="Times New Roman"/>
              </a:rPr>
              <a:t>Ele</a:t>
            </a:r>
            <a:r>
              <a:rPr b="1" lang="pt-BR" sz="2700" spc="-1" strike="noStrike">
                <a:solidFill>
                  <a:srgbClr val="ff3300"/>
                </a:solidFill>
                <a:latin typeface="Times New Roman"/>
              </a:rPr>
              <a:t> quer que você seja enquanto você está aqui.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105520" y="228600"/>
            <a:ext cx="3657600" cy="1219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038480" y="0"/>
            <a:ext cx="4343400" cy="114300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267080" y="0"/>
            <a:ext cx="3733920" cy="1219320"/>
          </a:xfrm>
          <a:prstGeom prst="cloudCallout">
            <a:avLst>
              <a:gd name="adj1" fmla="val -56078"/>
              <a:gd name="adj2" fmla="val 29819"/>
            </a:avLst>
          </a:prstGeom>
          <a:noFill/>
          <a:ln w="9360">
            <a:solidFill>
              <a:srgbClr val="00ccff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E O MAIS IMPORTANTE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066680" y="304920"/>
            <a:ext cx="7372440" cy="579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Mande esta mensagem para todos os seus amigo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para todos os que significam algo para você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e que fazem você sorrir quando você  precis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Mas caso você não mande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8f5f2f"/>
                </a:solidFill>
                <a:latin typeface="Times New Roman"/>
              </a:rPr>
              <a:t>não se  preocup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6600"/>
                </a:solidFill>
                <a:latin typeface="Times New Roman"/>
              </a:rPr>
              <a:t>Nada de mau irá te ocorrer.</a:t>
            </a:r>
            <a:r>
              <a:rPr b="1" lang="pt-BR" sz="3200" spc="-1" strike="noStrike">
                <a:solidFill>
                  <a:srgbClr val="ffcccc"/>
                </a:solidFill>
                <a:latin typeface="Times New Roman"/>
              </a:rPr>
              <a:t> </a:t>
            </a:r>
            <a:r>
              <a:rPr b="1" lang="pt-BR" sz="6000" spc="-1" strike="noStrike">
                <a:solidFill>
                  <a:srgbClr val="ffff00"/>
                </a:solidFill>
                <a:latin typeface="Wingdings"/>
                <a:ea typeface="Wingdings"/>
              </a:rPr>
              <a:t>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Você apenas perderá mais uma oportunida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    </a:t>
            </a:r>
            <a:r>
              <a:rPr b="0" lang="pt-BR" sz="2800" spc="-1" strike="noStrike">
                <a:solidFill>
                  <a:srgbClr val="8f5f2f"/>
                </a:solidFill>
                <a:latin typeface="Times New Roman"/>
              </a:rPr>
              <a:t>de fazer melhor o dia de alguém..!</a:t>
            </a:r>
            <a:r>
              <a:rPr b="0" lang="pt-BR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2743200" y="533520"/>
            <a:ext cx="36576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lvez Deus queira que nós conheça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gumas pessoas erradas antes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ar a pessoa cer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a que saibamos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o encontra-la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gradecer po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 bênçã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990720" y="533520"/>
            <a:ext cx="320040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Quando a porta da felicidade se fecha, outra porta se abre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ém, estam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ão presos àquela porta fechada 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ão somos capazes de ver o novo caminho que se abriu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3124080" y="1981080"/>
            <a:ext cx="37339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 melhor amigo é aquele com quem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ntamos por longas horas, sem diz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ma palavra, e a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ixa-lo, te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essão de que foi a melhor conversa que já tivem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295280" y="1219320"/>
            <a:ext cx="6782040" cy="30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008000"/>
                </a:solidFill>
                <a:latin typeface="Times New Roman"/>
              </a:rPr>
              <a:t>Ao darmos a alguém todo o nosso amor nunca temos a certeza de que iremos receber este amor de volt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Não ame esperando algo em troca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espere para que este sentimento cresça no coraçã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                     </a:t>
            </a:r>
            <a:r>
              <a:rPr b="0" lang="pt-BR" sz="2400" spc="-1" strike="noStrike">
                <a:solidFill>
                  <a:srgbClr val="663300"/>
                </a:solidFill>
                <a:latin typeface="Times New Roman"/>
              </a:rPr>
              <a:t>daquele que você ama.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E se isto não ocorrer, esteja feliz por est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300" spc="-1" strike="noStrike">
                <a:solidFill>
                  <a:srgbClr val="000066"/>
                </a:solidFill>
                <a:latin typeface="Times New Roman"/>
              </a:rPr>
              <a:t>sentimento estar crescendo em seu coração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838080" y="3124080"/>
            <a:ext cx="74678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Em questão de segundos n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apaixonamos por alguém, mas levamos uma vida inteira para esquecer alguém especi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Não busque boas aparências,elas podem mud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Só precisamos de um sorri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Times New Roman"/>
              </a:rPr>
              <a:t>para transformarmos um dia ruim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914400" y="914400"/>
            <a:ext cx="7500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contre aquela pessoa que faça seu coração sorr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á momentos na vida em que sentim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nto a falta de alguém que o 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is queremos é tirar esta pesso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 nossos sonhos e abraçá-l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33520" y="4800600"/>
            <a:ext cx="8610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onhe com aquilo que você quiser, vá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ara onde você queira ir, seja o que você quer ser, por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você possui apenas uma vida e nela só temos uma chance de fazer aquilo que querem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04920" y="1523880"/>
            <a:ext cx="266688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nha felicidade bastante para faze-la doc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ficuldades para faze-la forte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isteza para faze-la hum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 esperança suficiente para faze-la feliz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03T23:35:51Z</dcterms:created>
  <dc:creator>Licinio</dc:creator>
  <dc:description/>
  <dc:language>en-US</dc:language>
  <cp:lastModifiedBy>usuario</cp:lastModifiedBy>
  <dcterms:modified xsi:type="dcterms:W3CDTF">2004-06-18T00:20:05Z</dcterms:modified>
  <cp:revision>33</cp:revision>
  <dc:subject/>
  <dc:title>Make my day</dc:title>
</cp:coreProperties>
</file>