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89062"/>
        <c:axId val="64141348"/>
      </c:barChart>
      <c:catAx>
        <c:axId val="30489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41348"/>
        <c:crosses val="autoZero"/>
        <c:auto val="1"/>
        <c:lblAlgn val="ctr"/>
        <c:lblOffset val="100"/>
        <c:noMultiLvlLbl val="0"/>
      </c:catAx>
      <c:valAx>
        <c:axId val="64141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89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B9F7-97C9-4F74-93D6-83FB1218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2A0D-0956-4620-886F-3C4BDB9D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FD2-2BDF-40E8-8300-2950F684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A74-CE25-4BA5-8262-2D29A47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82C-A5A9-4CB9-8BBE-99FD9AD9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ACC-D7B9-41C1-9CBB-BCE2E430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07B-BE7D-42C7-BCB1-BE167F79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AF1-C525-4B42-B600-85C21D09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C7F-0187-485C-9477-929FCB27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651-E00C-4306-B6FA-A8ACAA8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3A4C-24F2-43E2-ADD5-5DF40D3B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4EB-4554-41DF-82D1-79D9DC54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8F455-B960-4F74-86D3-D2881866C6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