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46237"/>
        <c:axId val="50534854"/>
      </c:barChart>
      <c:catAx>
        <c:axId val="42946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34854"/>
        <c:crosses val="autoZero"/>
        <c:auto val="1"/>
        <c:lblAlgn val="ctr"/>
        <c:lblOffset val="100"/>
        <c:noMultiLvlLbl val="0"/>
      </c:catAx>
      <c:valAx>
        <c:axId val="50534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46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849-5590-4F66-8CC4-D5421C64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02C-92C6-46CD-BDC2-7C3508D4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333E-D337-4AA2-A065-B2097D99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7B7E-80DE-4694-8496-1308B5E5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897-7CE9-43FE-AB27-5013E75E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0C8-B29C-41FB-9CBC-F6952600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028-4F94-4CD2-A77A-A26D5228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86F-3C84-406F-B4F8-9DDCAD10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EB15-456D-4A53-8C01-31BF1BA6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18A6-8214-455E-B566-83905DD6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AB0-86A8-4B58-93F7-BB13EA54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180-80C2-431E-94C7-0AD0F064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D458B-F2E3-4EC8-A323-AD316D1F94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