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2422"/>
        <c:axId val="91464973"/>
      </c:barChart>
      <c:catAx>
        <c:axId val="3642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64973"/>
        <c:crosses val="autoZero"/>
        <c:auto val="1"/>
        <c:lblAlgn val="ctr"/>
        <c:lblOffset val="100"/>
        <c:noMultiLvlLbl val="0"/>
      </c:catAx>
      <c:valAx>
        <c:axId val="91464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2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5E9-C6DB-421F-A2D6-F1081C4B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DC8-A97C-4ABF-B176-C0FC26DA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119-F051-424E-9977-4EF16914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AC6-CC7C-40AD-89DD-8579CCA5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375-28C2-40F8-8330-2357B294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0B6-2EEC-4393-BC51-D4CD55A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FEB-B238-4CDC-964C-28DD9537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4EB-5102-416B-BC53-01E72DC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17B-3828-4403-818D-2734069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570-FCA2-4F84-AE64-6208DB3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DE0-6050-457F-A97E-0A2211A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823-B619-4252-9DCB-7C891B4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78A90-15D4-4B18-AA9A-9FB4503F12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