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475152"/>
        <c:axId val="45235609"/>
      </c:barChart>
      <c:catAx>
        <c:axId val="464751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235609"/>
        <c:crosses val="autoZero"/>
        <c:auto val="1"/>
        <c:lblAlgn val="ctr"/>
        <c:lblOffset val="100"/>
        <c:noMultiLvlLbl val="0"/>
      </c:catAx>
      <c:valAx>
        <c:axId val="452356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4751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DAA1-73E8-46E2-AA80-18FE104DA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94AE-2216-4E3D-817C-318F6B3F2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5305-E5FA-4371-8B46-CCEDD2463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49A5-1C94-4A6A-B42C-72983EAAB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7A42-250B-4D45-87A4-7565A4D2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FD58-E5A5-4885-85EF-D0659C221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BB29-67CE-40A5-BE9C-3DE81D4FC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B491-C778-47C4-A257-8D4404A4F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2A15-5D2D-411C-9A7F-7B999ADF3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BFA1-A38A-4820-B092-BBB37B39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C0C5-0589-4E2C-B84A-C2D85B15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A2B4-C34C-4AFB-9564-7AF59D86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9F92D4-671B-4542-AF4E-8746E3F2002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