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41702"/>
        <c:axId val="4130077"/>
      </c:barChart>
      <c:catAx>
        <c:axId val="78741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0077"/>
        <c:crosses val="autoZero"/>
        <c:auto val="1"/>
        <c:lblAlgn val="ctr"/>
        <c:lblOffset val="100"/>
        <c:noMultiLvlLbl val="0"/>
      </c:catAx>
      <c:valAx>
        <c:axId val="4130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1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A23-F399-4863-ABE4-A8C4768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C20-03C5-43CE-A738-A3EA1F6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563-6D87-4C7D-98B3-1D4806E8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E99-F47B-4977-BE7E-79F24396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6C7-0E06-4A35-9348-8EDB9C46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A50-5D38-4439-BF6E-999A2F8E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F84-872B-4175-8D47-9C38A519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B50-FF01-4DA0-8B03-224DFDD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D37-56CA-4B3A-BEA4-79FBCD1A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395-33E7-4937-931F-A2032AB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F38-D44E-46C1-B6AE-A72678D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569-3198-4382-BED2-7D5A260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A01DD-F50E-41C1-9869-76AEFC1A37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