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2886"/>
        <c:axId val="8885356"/>
      </c:barChart>
      <c:catAx>
        <c:axId val="23128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5356"/>
        <c:crosses val="autoZero"/>
        <c:auto val="1"/>
        <c:lblAlgn val="ctr"/>
        <c:lblOffset val="100"/>
        <c:noMultiLvlLbl val="0"/>
      </c:catAx>
      <c:valAx>
        <c:axId val="8885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28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1D1-74EC-406B-A498-3B555744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8B2A-AC35-420E-8BE4-1F05D566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669-6A98-4628-B87A-A9693A03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14E-DB4C-455D-95AD-3A8FA024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372-D328-4EDD-AE79-BFD71D2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0EB-3818-48EF-AFA7-989B2DD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009-5787-4E27-ADC2-FA1737DF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F0A-4E3C-4C8F-B3F2-0CEC62DE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6DE-A616-4865-87B7-A9DF6D2A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8B7-1C6C-406F-A742-C6EBCC29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746-74D3-45EA-9BAA-423C36E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3D10-0CA3-4760-8A57-628C47DC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59D25-28DD-43CF-B401-6BB4FD7D6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