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43869"/>
        <c:axId val="57310190"/>
      </c:barChart>
      <c:catAx>
        <c:axId val="30243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10190"/>
        <c:crosses val="autoZero"/>
        <c:auto val="1"/>
        <c:lblAlgn val="ctr"/>
        <c:lblOffset val="100"/>
        <c:noMultiLvlLbl val="0"/>
      </c:catAx>
      <c:valAx>
        <c:axId val="57310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43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5E7-5EB7-48B7-A3F0-407D2736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6D6-332D-4568-8143-30943B89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EBF-8CAA-4760-9E03-5D9F4C1F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D39-BCAE-41F0-8DF5-185D7B08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F7A-5937-4846-A085-853B17AB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605-48E3-451A-8FF4-6E6C6AB2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BD3-2C54-4CC4-B917-CFD63187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EC3-B9FF-4D44-91DD-4E4A2C06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985-AD72-4BF3-84C3-15B29330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8CC-39DE-4B9E-B65E-B7E0F3D3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807-64BC-4A39-AA1C-EC5A51F4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072-46D9-4167-84C2-40171B2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F1FC9-0952-4E8F-9231-5ABE3A77F7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