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39702"/>
        <c:axId val="93677250"/>
      </c:barChart>
      <c:catAx>
        <c:axId val="81239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77250"/>
        <c:crosses val="autoZero"/>
        <c:auto val="1"/>
        <c:lblAlgn val="ctr"/>
        <c:lblOffset val="100"/>
        <c:noMultiLvlLbl val="0"/>
      </c:catAx>
      <c:valAx>
        <c:axId val="93677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9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4D9-70E1-4AF4-908C-97A1C850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30E-F1ED-4E28-94FC-9AE0A70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8CF-7295-4ACA-8238-CABCC14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79A-23BF-4980-A025-DF7891C8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574-5F1A-4287-B800-D72EC2B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B9B-1D72-4D4E-9462-F963D98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FA3-0CAA-4A24-973F-1327719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4B5-09A5-46DC-AEE0-D2CA80F1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A3B-98DE-4A02-A2BD-44B2AAE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68C-3033-41DD-AA26-6D51EC7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ACF-E2BD-41CA-8FB2-6054978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130-FAAC-42C5-A268-D4900DDB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7B092-0369-4F5E-8BD4-2EEED14F2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