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76362"/>
        <c:axId val="21209542"/>
      </c:barChart>
      <c:catAx>
        <c:axId val="46476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9542"/>
        <c:crosses val="autoZero"/>
        <c:auto val="1"/>
        <c:lblAlgn val="ctr"/>
        <c:lblOffset val="100"/>
        <c:noMultiLvlLbl val="0"/>
      </c:catAx>
      <c:valAx>
        <c:axId val="21209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6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EA6-201C-4709-A64A-B3A21478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A56-52F6-4CD7-9238-267D676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986-4294-4CBB-8B40-F97299CE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5DB-1122-497E-9D0F-3CFE43B9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D94-9930-494B-BEC6-109B44F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DFF-D817-46B8-8361-E2EB5BC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D1E-31AE-4992-8918-A23F0B0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D8A-F165-46AF-85B9-9AE31813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52F-8BC7-4C00-AF52-8C0A38A1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FE7-4128-48DF-86CB-68F6105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BE2-8A0E-4D45-8EE8-FEC7288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7D2-4C72-4C0F-BABB-D7C21A5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D9A2-B1FF-467D-B141-F287E627E8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